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31C-0123-4063-8C8F-EFA64F1B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BA0-24D0-473B-81E9-959FE3C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677-2294-481F-A62C-EF2B071C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F27-5B67-46CB-8B6D-51D8A38A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AA1-7715-447F-854D-93A66B81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AE6-7669-400F-8A20-EE7472D9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78C-6A54-4D55-972C-95681D6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0BF-CBA2-48A8-B8C1-3047663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3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237-8D05-4428-BAB1-AC3A412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C31-74D9-455C-A524-3F533DA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C47-F271-4D53-BD4B-22E7FA0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BCB-7A32-4DE7-AFF7-61CF42D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793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28E-B154-4F57-AF8F-872047DA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1066680"/>
            <a:ext cx="808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ea7934"/>
                </a:solidFill>
                <a:latin typeface="Arial"/>
              </a:rPr>
              <a:t>Integrated Catchment Management</a:t>
            </a:r>
            <a:br>
              <a:rPr sz="4000"/>
            </a:br>
            <a:r>
              <a:rPr b="1" i="1" lang="en-NZ" sz="3600" spc="-1" strike="noStrike">
                <a:solidFill>
                  <a:srgbClr val="ea7934"/>
                </a:solidFill>
                <a:latin typeface="Arial"/>
              </a:rPr>
              <a:t>Developing Partnerships for a Sustainable Future</a:t>
            </a:r>
            <a:endParaRPr b="1" lang="en-US" sz="36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William B. Bow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Landcar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Arial"/>
              </a:rPr>
              <a:t>www.landcare.cri.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8695800" cy="6858000"/>
            <a:chOff x="0" y="0"/>
            <a:chExt cx="86958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6893280" y="5029200"/>
              <a:ext cx="1802520" cy="1366560"/>
              <a:chOff x="6893280" y="5029200"/>
              <a:chExt cx="1802520" cy="1366560"/>
            </a:xfrm>
          </p:grpSpPr>
          <p:sp>
            <p:nvSpPr>
              <p:cNvPr id="45" name=""/>
              <p:cNvSpPr/>
              <p:nvPr/>
            </p:nvSpPr>
            <p:spPr>
              <a:xfrm>
                <a:off x="6893280" y="5029200"/>
                <a:ext cx="1802520" cy="1366560"/>
              </a:xfrm>
              <a:custGeom>
                <a:avLst/>
                <a:gdLst/>
                <a:ahLst/>
                <a:rect l="l" t="t" r="r" b="b"/>
                <a:pathLst>
                  <a:path w="1196" h="861">
                    <a:moveTo>
                      <a:pt x="828" y="0"/>
                    </a:moveTo>
                    <a:lnTo>
                      <a:pt x="836" y="8"/>
                    </a:lnTo>
                    <a:lnTo>
                      <a:pt x="845" y="18"/>
                    </a:lnTo>
                    <a:lnTo>
                      <a:pt x="854" y="29"/>
                    </a:lnTo>
                    <a:lnTo>
                      <a:pt x="863" y="40"/>
                    </a:lnTo>
                    <a:lnTo>
                      <a:pt x="872" y="52"/>
                    </a:lnTo>
                    <a:lnTo>
                      <a:pt x="880" y="65"/>
                    </a:lnTo>
                    <a:lnTo>
                      <a:pt x="889" y="79"/>
                    </a:lnTo>
                    <a:lnTo>
                      <a:pt x="897" y="93"/>
                    </a:lnTo>
                    <a:lnTo>
                      <a:pt x="905" y="109"/>
                    </a:lnTo>
                    <a:lnTo>
                      <a:pt x="913" y="124"/>
                    </a:lnTo>
                    <a:lnTo>
                      <a:pt x="920" y="141"/>
                    </a:lnTo>
                    <a:lnTo>
                      <a:pt x="927" y="158"/>
                    </a:lnTo>
                    <a:lnTo>
                      <a:pt x="933" y="175"/>
                    </a:lnTo>
                    <a:lnTo>
                      <a:pt x="939" y="193"/>
                    </a:lnTo>
                    <a:lnTo>
                      <a:pt x="944" y="211"/>
                    </a:lnTo>
                    <a:lnTo>
                      <a:pt x="948" y="230"/>
                    </a:lnTo>
                    <a:lnTo>
                      <a:pt x="951" y="249"/>
                    </a:lnTo>
                    <a:lnTo>
                      <a:pt x="953" y="269"/>
                    </a:lnTo>
                    <a:lnTo>
                      <a:pt x="955" y="289"/>
                    </a:lnTo>
                    <a:lnTo>
                      <a:pt x="955" y="299"/>
                    </a:lnTo>
                    <a:lnTo>
                      <a:pt x="955" y="309"/>
                    </a:lnTo>
                    <a:lnTo>
                      <a:pt x="954" y="330"/>
                    </a:lnTo>
                    <a:lnTo>
                      <a:pt x="954" y="340"/>
                    </a:lnTo>
                    <a:lnTo>
                      <a:pt x="952" y="350"/>
                    </a:lnTo>
                    <a:lnTo>
                      <a:pt x="951" y="361"/>
                    </a:lnTo>
                    <a:lnTo>
                      <a:pt x="949" y="371"/>
                    </a:lnTo>
                    <a:lnTo>
                      <a:pt x="945" y="392"/>
                    </a:lnTo>
                    <a:lnTo>
                      <a:pt x="939" y="413"/>
                    </a:lnTo>
                    <a:lnTo>
                      <a:pt x="932" y="435"/>
                    </a:lnTo>
                    <a:lnTo>
                      <a:pt x="923" y="456"/>
                    </a:lnTo>
                    <a:lnTo>
                      <a:pt x="912" y="478"/>
                    </a:lnTo>
                    <a:lnTo>
                      <a:pt x="900" y="499"/>
                    </a:lnTo>
                    <a:lnTo>
                      <a:pt x="894" y="509"/>
                    </a:lnTo>
                    <a:lnTo>
                      <a:pt x="887" y="520"/>
                    </a:lnTo>
                    <a:lnTo>
                      <a:pt x="879" y="530"/>
                    </a:lnTo>
                    <a:lnTo>
                      <a:pt x="871" y="541"/>
                    </a:lnTo>
                    <a:lnTo>
                      <a:pt x="863" y="551"/>
                    </a:lnTo>
                    <a:lnTo>
                      <a:pt x="854" y="561"/>
                    </a:lnTo>
                    <a:lnTo>
                      <a:pt x="862" y="566"/>
                    </a:lnTo>
                    <a:lnTo>
                      <a:pt x="869" y="571"/>
                    </a:lnTo>
                    <a:lnTo>
                      <a:pt x="875" y="577"/>
                    </a:lnTo>
                    <a:lnTo>
                      <a:pt x="881" y="583"/>
                    </a:lnTo>
                    <a:lnTo>
                      <a:pt x="886" y="588"/>
                    </a:lnTo>
                    <a:lnTo>
                      <a:pt x="889" y="593"/>
                    </a:lnTo>
                    <a:lnTo>
                      <a:pt x="892" y="597"/>
                    </a:lnTo>
                    <a:lnTo>
                      <a:pt x="897" y="594"/>
                    </a:lnTo>
                    <a:lnTo>
                      <a:pt x="902" y="590"/>
                    </a:lnTo>
                    <a:lnTo>
                      <a:pt x="908" y="585"/>
                    </a:lnTo>
                    <a:lnTo>
                      <a:pt x="914" y="580"/>
                    </a:lnTo>
                    <a:lnTo>
                      <a:pt x="920" y="573"/>
                    </a:lnTo>
                    <a:lnTo>
                      <a:pt x="926" y="566"/>
                    </a:lnTo>
                    <a:lnTo>
                      <a:pt x="932" y="559"/>
                    </a:lnTo>
                    <a:lnTo>
                      <a:pt x="939" y="550"/>
                    </a:lnTo>
                    <a:lnTo>
                      <a:pt x="951" y="531"/>
                    </a:lnTo>
                    <a:lnTo>
                      <a:pt x="958" y="521"/>
                    </a:lnTo>
                    <a:lnTo>
                      <a:pt x="964" y="510"/>
                    </a:lnTo>
                    <a:lnTo>
                      <a:pt x="970" y="498"/>
                    </a:lnTo>
                    <a:lnTo>
                      <a:pt x="976" y="486"/>
                    </a:lnTo>
                    <a:lnTo>
                      <a:pt x="981" y="473"/>
                    </a:lnTo>
                    <a:lnTo>
                      <a:pt x="986" y="460"/>
                    </a:lnTo>
                    <a:lnTo>
                      <a:pt x="991" y="446"/>
                    </a:lnTo>
                    <a:lnTo>
                      <a:pt x="996" y="431"/>
                    </a:lnTo>
                    <a:lnTo>
                      <a:pt x="1000" y="416"/>
                    </a:lnTo>
                    <a:lnTo>
                      <a:pt x="1004" y="401"/>
                    </a:lnTo>
                    <a:lnTo>
                      <a:pt x="1007" y="386"/>
                    </a:lnTo>
                    <a:lnTo>
                      <a:pt x="1010" y="370"/>
                    </a:lnTo>
                    <a:lnTo>
                      <a:pt x="1012" y="354"/>
                    </a:lnTo>
                    <a:lnTo>
                      <a:pt x="1014" y="338"/>
                    </a:lnTo>
                    <a:lnTo>
                      <a:pt x="1014" y="321"/>
                    </a:lnTo>
                    <a:lnTo>
                      <a:pt x="1015" y="304"/>
                    </a:lnTo>
                    <a:lnTo>
                      <a:pt x="1014" y="286"/>
                    </a:lnTo>
                    <a:lnTo>
                      <a:pt x="1013" y="269"/>
                    </a:lnTo>
                    <a:lnTo>
                      <a:pt x="1011" y="251"/>
                    </a:lnTo>
                    <a:lnTo>
                      <a:pt x="1008" y="233"/>
                    </a:lnTo>
                    <a:lnTo>
                      <a:pt x="1004" y="215"/>
                    </a:lnTo>
                    <a:lnTo>
                      <a:pt x="999" y="197"/>
                    </a:lnTo>
                    <a:lnTo>
                      <a:pt x="1003" y="199"/>
                    </a:lnTo>
                    <a:lnTo>
                      <a:pt x="1008" y="202"/>
                    </a:lnTo>
                    <a:lnTo>
                      <a:pt x="1012" y="206"/>
                    </a:lnTo>
                    <a:lnTo>
                      <a:pt x="1018" y="210"/>
                    </a:lnTo>
                    <a:lnTo>
                      <a:pt x="1023" y="215"/>
                    </a:lnTo>
                    <a:lnTo>
                      <a:pt x="1028" y="221"/>
                    </a:lnTo>
                    <a:lnTo>
                      <a:pt x="1034" y="228"/>
                    </a:lnTo>
                    <a:lnTo>
                      <a:pt x="1040" y="235"/>
                    </a:lnTo>
                    <a:lnTo>
                      <a:pt x="1052" y="252"/>
                    </a:lnTo>
                    <a:lnTo>
                      <a:pt x="1064" y="271"/>
                    </a:lnTo>
                    <a:lnTo>
                      <a:pt x="1076" y="292"/>
                    </a:lnTo>
                    <a:lnTo>
                      <a:pt x="1088" y="314"/>
                    </a:lnTo>
                    <a:lnTo>
                      <a:pt x="1099" y="338"/>
                    </a:lnTo>
                    <a:lnTo>
                      <a:pt x="1110" y="363"/>
                    </a:lnTo>
                    <a:lnTo>
                      <a:pt x="1119" y="389"/>
                    </a:lnTo>
                    <a:lnTo>
                      <a:pt x="1123" y="402"/>
                    </a:lnTo>
                    <a:lnTo>
                      <a:pt x="1127" y="416"/>
                    </a:lnTo>
                    <a:lnTo>
                      <a:pt x="1130" y="429"/>
                    </a:lnTo>
                    <a:lnTo>
                      <a:pt x="1133" y="444"/>
                    </a:lnTo>
                    <a:lnTo>
                      <a:pt x="1135" y="457"/>
                    </a:lnTo>
                    <a:lnTo>
                      <a:pt x="1137" y="471"/>
                    </a:lnTo>
                    <a:lnTo>
                      <a:pt x="1139" y="484"/>
                    </a:lnTo>
                    <a:lnTo>
                      <a:pt x="1139" y="497"/>
                    </a:lnTo>
                    <a:lnTo>
                      <a:pt x="1140" y="510"/>
                    </a:lnTo>
                    <a:lnTo>
                      <a:pt x="1139" y="523"/>
                    </a:lnTo>
                    <a:lnTo>
                      <a:pt x="1138" y="537"/>
                    </a:lnTo>
                    <a:lnTo>
                      <a:pt x="1136" y="551"/>
                    </a:lnTo>
                    <a:lnTo>
                      <a:pt x="1134" y="565"/>
                    </a:lnTo>
                    <a:lnTo>
                      <a:pt x="1131" y="579"/>
                    </a:lnTo>
                    <a:lnTo>
                      <a:pt x="1128" y="592"/>
                    </a:lnTo>
                    <a:lnTo>
                      <a:pt x="1124" y="605"/>
                    </a:lnTo>
                    <a:lnTo>
                      <a:pt x="1120" y="618"/>
                    </a:lnTo>
                    <a:lnTo>
                      <a:pt x="1115" y="631"/>
                    </a:lnTo>
                    <a:lnTo>
                      <a:pt x="1110" y="643"/>
                    </a:lnTo>
                    <a:lnTo>
                      <a:pt x="1104" y="655"/>
                    </a:lnTo>
                    <a:lnTo>
                      <a:pt x="1098" y="667"/>
                    </a:lnTo>
                    <a:lnTo>
                      <a:pt x="1092" y="679"/>
                    </a:lnTo>
                    <a:lnTo>
                      <a:pt x="1085" y="690"/>
                    </a:lnTo>
                    <a:lnTo>
                      <a:pt x="1077" y="701"/>
                    </a:lnTo>
                    <a:lnTo>
                      <a:pt x="1070" y="711"/>
                    </a:lnTo>
                    <a:lnTo>
                      <a:pt x="1062" y="721"/>
                    </a:lnTo>
                    <a:lnTo>
                      <a:pt x="1053" y="730"/>
                    </a:lnTo>
                    <a:lnTo>
                      <a:pt x="1044" y="740"/>
                    </a:lnTo>
                    <a:lnTo>
                      <a:pt x="1035" y="748"/>
                    </a:lnTo>
                    <a:lnTo>
                      <a:pt x="1026" y="756"/>
                    </a:lnTo>
                    <a:lnTo>
                      <a:pt x="1016" y="764"/>
                    </a:lnTo>
                    <a:lnTo>
                      <a:pt x="1006" y="771"/>
                    </a:lnTo>
                    <a:lnTo>
                      <a:pt x="995" y="777"/>
                    </a:lnTo>
                    <a:lnTo>
                      <a:pt x="984" y="783"/>
                    </a:lnTo>
                    <a:lnTo>
                      <a:pt x="973" y="788"/>
                    </a:lnTo>
                    <a:lnTo>
                      <a:pt x="962" y="793"/>
                    </a:lnTo>
                    <a:lnTo>
                      <a:pt x="951" y="797"/>
                    </a:lnTo>
                    <a:lnTo>
                      <a:pt x="939" y="800"/>
                    </a:lnTo>
                    <a:lnTo>
                      <a:pt x="927" y="803"/>
                    </a:lnTo>
                    <a:lnTo>
                      <a:pt x="915" y="805"/>
                    </a:lnTo>
                    <a:lnTo>
                      <a:pt x="902" y="806"/>
                    </a:lnTo>
                    <a:lnTo>
                      <a:pt x="890" y="806"/>
                    </a:lnTo>
                    <a:lnTo>
                      <a:pt x="878" y="806"/>
                    </a:lnTo>
                    <a:lnTo>
                      <a:pt x="868" y="805"/>
                    </a:lnTo>
                    <a:lnTo>
                      <a:pt x="857" y="804"/>
                    </a:lnTo>
                    <a:lnTo>
                      <a:pt x="848" y="802"/>
                    </a:lnTo>
                    <a:lnTo>
                      <a:pt x="838" y="800"/>
                    </a:lnTo>
                    <a:lnTo>
                      <a:pt x="829" y="797"/>
                    </a:lnTo>
                    <a:lnTo>
                      <a:pt x="820" y="794"/>
                    </a:lnTo>
                    <a:lnTo>
                      <a:pt x="812" y="791"/>
                    </a:lnTo>
                    <a:lnTo>
                      <a:pt x="804" y="787"/>
                    </a:lnTo>
                    <a:lnTo>
                      <a:pt x="797" y="783"/>
                    </a:lnTo>
                    <a:lnTo>
                      <a:pt x="790" y="778"/>
                    </a:lnTo>
                    <a:lnTo>
                      <a:pt x="784" y="774"/>
                    </a:lnTo>
                    <a:lnTo>
                      <a:pt x="778" y="769"/>
                    </a:lnTo>
                    <a:lnTo>
                      <a:pt x="772" y="764"/>
                    </a:lnTo>
                    <a:lnTo>
                      <a:pt x="767" y="758"/>
                    </a:lnTo>
                    <a:lnTo>
                      <a:pt x="762" y="753"/>
                    </a:lnTo>
                    <a:lnTo>
                      <a:pt x="754" y="741"/>
                    </a:lnTo>
                    <a:lnTo>
                      <a:pt x="750" y="736"/>
                    </a:lnTo>
                    <a:lnTo>
                      <a:pt x="747" y="730"/>
                    </a:lnTo>
                    <a:lnTo>
                      <a:pt x="745" y="724"/>
                    </a:lnTo>
                    <a:lnTo>
                      <a:pt x="743" y="718"/>
                    </a:lnTo>
                    <a:lnTo>
                      <a:pt x="740" y="706"/>
                    </a:lnTo>
                    <a:lnTo>
                      <a:pt x="739" y="700"/>
                    </a:lnTo>
                    <a:lnTo>
                      <a:pt x="738" y="695"/>
                    </a:lnTo>
                    <a:lnTo>
                      <a:pt x="738" y="689"/>
                    </a:lnTo>
                    <a:lnTo>
                      <a:pt x="739" y="683"/>
                    </a:lnTo>
                    <a:lnTo>
                      <a:pt x="741" y="673"/>
                    </a:lnTo>
                    <a:lnTo>
                      <a:pt x="743" y="668"/>
                    </a:lnTo>
                    <a:lnTo>
                      <a:pt x="745" y="664"/>
                    </a:lnTo>
                    <a:lnTo>
                      <a:pt x="749" y="657"/>
                    </a:lnTo>
                    <a:lnTo>
                      <a:pt x="753" y="652"/>
                    </a:lnTo>
                    <a:lnTo>
                      <a:pt x="757" y="647"/>
                    </a:lnTo>
                    <a:lnTo>
                      <a:pt x="762" y="642"/>
                    </a:lnTo>
                    <a:lnTo>
                      <a:pt x="768" y="639"/>
                    </a:lnTo>
                    <a:lnTo>
                      <a:pt x="773" y="636"/>
                    </a:lnTo>
                    <a:lnTo>
                      <a:pt x="778" y="633"/>
                    </a:lnTo>
                    <a:lnTo>
                      <a:pt x="783" y="632"/>
                    </a:lnTo>
                    <a:lnTo>
                      <a:pt x="788" y="631"/>
                    </a:lnTo>
                    <a:lnTo>
                      <a:pt x="793" y="630"/>
                    </a:lnTo>
                    <a:lnTo>
                      <a:pt x="797" y="631"/>
                    </a:lnTo>
                    <a:lnTo>
                      <a:pt x="801" y="632"/>
                    </a:lnTo>
                    <a:lnTo>
                      <a:pt x="805" y="633"/>
                    </a:lnTo>
                    <a:lnTo>
                      <a:pt x="808" y="636"/>
                    </a:lnTo>
                    <a:lnTo>
                      <a:pt x="810" y="639"/>
                    </a:lnTo>
                    <a:lnTo>
                      <a:pt x="811" y="642"/>
                    </a:lnTo>
                    <a:lnTo>
                      <a:pt x="807" y="641"/>
                    </a:lnTo>
                    <a:lnTo>
                      <a:pt x="803" y="642"/>
                    </a:lnTo>
                    <a:lnTo>
                      <a:pt x="799" y="643"/>
                    </a:lnTo>
                    <a:lnTo>
                      <a:pt x="795" y="645"/>
                    </a:lnTo>
                    <a:lnTo>
                      <a:pt x="791" y="648"/>
                    </a:lnTo>
                    <a:lnTo>
                      <a:pt x="787" y="651"/>
                    </a:lnTo>
                    <a:lnTo>
                      <a:pt x="783" y="656"/>
                    </a:lnTo>
                    <a:lnTo>
                      <a:pt x="780" y="660"/>
                    </a:lnTo>
                    <a:lnTo>
                      <a:pt x="777" y="666"/>
                    </a:lnTo>
                    <a:lnTo>
                      <a:pt x="775" y="671"/>
                    </a:lnTo>
                    <a:lnTo>
                      <a:pt x="774" y="677"/>
                    </a:lnTo>
                    <a:lnTo>
                      <a:pt x="774" y="683"/>
                    </a:lnTo>
                    <a:lnTo>
                      <a:pt x="775" y="686"/>
                    </a:lnTo>
                    <a:lnTo>
                      <a:pt x="776" y="690"/>
                    </a:lnTo>
                    <a:lnTo>
                      <a:pt x="777" y="693"/>
                    </a:lnTo>
                    <a:lnTo>
                      <a:pt x="778" y="696"/>
                    </a:lnTo>
                    <a:lnTo>
                      <a:pt x="780" y="699"/>
                    </a:lnTo>
                    <a:lnTo>
                      <a:pt x="782" y="702"/>
                    </a:lnTo>
                    <a:lnTo>
                      <a:pt x="785" y="706"/>
                    </a:lnTo>
                    <a:lnTo>
                      <a:pt x="787" y="709"/>
                    </a:lnTo>
                    <a:lnTo>
                      <a:pt x="790" y="711"/>
                    </a:lnTo>
                    <a:lnTo>
                      <a:pt x="794" y="714"/>
                    </a:lnTo>
                    <a:lnTo>
                      <a:pt x="797" y="716"/>
                    </a:lnTo>
                    <a:lnTo>
                      <a:pt x="800" y="717"/>
                    </a:lnTo>
                    <a:lnTo>
                      <a:pt x="804" y="719"/>
                    </a:lnTo>
                    <a:lnTo>
                      <a:pt x="807" y="719"/>
                    </a:lnTo>
                    <a:lnTo>
                      <a:pt x="815" y="720"/>
                    </a:lnTo>
                    <a:lnTo>
                      <a:pt x="823" y="720"/>
                    </a:lnTo>
                    <a:lnTo>
                      <a:pt x="830" y="718"/>
                    </a:lnTo>
                    <a:lnTo>
                      <a:pt x="838" y="715"/>
                    </a:lnTo>
                    <a:lnTo>
                      <a:pt x="845" y="711"/>
                    </a:lnTo>
                    <a:lnTo>
                      <a:pt x="852" y="706"/>
                    </a:lnTo>
                    <a:lnTo>
                      <a:pt x="855" y="703"/>
                    </a:lnTo>
                    <a:lnTo>
                      <a:pt x="858" y="700"/>
                    </a:lnTo>
                    <a:lnTo>
                      <a:pt x="863" y="693"/>
                    </a:lnTo>
                    <a:lnTo>
                      <a:pt x="868" y="685"/>
                    </a:lnTo>
                    <a:lnTo>
                      <a:pt x="870" y="681"/>
                    </a:lnTo>
                    <a:lnTo>
                      <a:pt x="872" y="677"/>
                    </a:lnTo>
                    <a:lnTo>
                      <a:pt x="873" y="672"/>
                    </a:lnTo>
                    <a:lnTo>
                      <a:pt x="874" y="667"/>
                    </a:lnTo>
                    <a:lnTo>
                      <a:pt x="875" y="662"/>
                    </a:lnTo>
                    <a:lnTo>
                      <a:pt x="875" y="657"/>
                    </a:lnTo>
                    <a:lnTo>
                      <a:pt x="876" y="652"/>
                    </a:lnTo>
                    <a:lnTo>
                      <a:pt x="875" y="647"/>
                    </a:lnTo>
                    <a:lnTo>
                      <a:pt x="874" y="639"/>
                    </a:lnTo>
                    <a:lnTo>
                      <a:pt x="873" y="635"/>
                    </a:lnTo>
                    <a:lnTo>
                      <a:pt x="872" y="632"/>
                    </a:lnTo>
                    <a:lnTo>
                      <a:pt x="868" y="625"/>
                    </a:lnTo>
                    <a:lnTo>
                      <a:pt x="864" y="618"/>
                    </a:lnTo>
                    <a:lnTo>
                      <a:pt x="858" y="611"/>
                    </a:lnTo>
                    <a:lnTo>
                      <a:pt x="851" y="606"/>
                    </a:lnTo>
                    <a:lnTo>
                      <a:pt x="844" y="600"/>
                    </a:lnTo>
                    <a:lnTo>
                      <a:pt x="840" y="598"/>
                    </a:lnTo>
                    <a:lnTo>
                      <a:pt x="836" y="596"/>
                    </a:lnTo>
                    <a:lnTo>
                      <a:pt x="832" y="594"/>
                    </a:lnTo>
                    <a:lnTo>
                      <a:pt x="827" y="592"/>
                    </a:lnTo>
                    <a:lnTo>
                      <a:pt x="822" y="590"/>
                    </a:lnTo>
                    <a:lnTo>
                      <a:pt x="817" y="589"/>
                    </a:lnTo>
                    <a:lnTo>
                      <a:pt x="807" y="587"/>
                    </a:lnTo>
                    <a:lnTo>
                      <a:pt x="797" y="586"/>
                    </a:lnTo>
                    <a:lnTo>
                      <a:pt x="785" y="586"/>
                    </a:lnTo>
                    <a:lnTo>
                      <a:pt x="774" y="587"/>
                    </a:lnTo>
                    <a:lnTo>
                      <a:pt x="762" y="589"/>
                    </a:lnTo>
                    <a:lnTo>
                      <a:pt x="756" y="590"/>
                    </a:lnTo>
                    <a:lnTo>
                      <a:pt x="749" y="592"/>
                    </a:lnTo>
                    <a:lnTo>
                      <a:pt x="741" y="596"/>
                    </a:lnTo>
                    <a:lnTo>
                      <a:pt x="733" y="600"/>
                    </a:lnTo>
                    <a:lnTo>
                      <a:pt x="725" y="605"/>
                    </a:lnTo>
                    <a:lnTo>
                      <a:pt x="717" y="612"/>
                    </a:lnTo>
                    <a:lnTo>
                      <a:pt x="710" y="620"/>
                    </a:lnTo>
                    <a:lnTo>
                      <a:pt x="703" y="628"/>
                    </a:lnTo>
                    <a:lnTo>
                      <a:pt x="697" y="638"/>
                    </a:lnTo>
                    <a:lnTo>
                      <a:pt x="691" y="648"/>
                    </a:lnTo>
                    <a:lnTo>
                      <a:pt x="689" y="653"/>
                    </a:lnTo>
                    <a:lnTo>
                      <a:pt x="687" y="659"/>
                    </a:lnTo>
                    <a:lnTo>
                      <a:pt x="684" y="671"/>
                    </a:lnTo>
                    <a:lnTo>
                      <a:pt x="682" y="684"/>
                    </a:lnTo>
                    <a:lnTo>
                      <a:pt x="681" y="691"/>
                    </a:lnTo>
                    <a:lnTo>
                      <a:pt x="681" y="698"/>
                    </a:lnTo>
                    <a:lnTo>
                      <a:pt x="682" y="705"/>
                    </a:lnTo>
                    <a:lnTo>
                      <a:pt x="682" y="712"/>
                    </a:lnTo>
                    <a:lnTo>
                      <a:pt x="685" y="727"/>
                    </a:lnTo>
                    <a:lnTo>
                      <a:pt x="690" y="742"/>
                    </a:lnTo>
                    <a:lnTo>
                      <a:pt x="693" y="750"/>
                    </a:lnTo>
                    <a:lnTo>
                      <a:pt x="697" y="759"/>
                    </a:lnTo>
                    <a:lnTo>
                      <a:pt x="700" y="764"/>
                    </a:lnTo>
                    <a:lnTo>
                      <a:pt x="703" y="770"/>
                    </a:lnTo>
                    <a:lnTo>
                      <a:pt x="711" y="781"/>
                    </a:lnTo>
                    <a:lnTo>
                      <a:pt x="719" y="791"/>
                    </a:lnTo>
                    <a:lnTo>
                      <a:pt x="724" y="796"/>
                    </a:lnTo>
                    <a:lnTo>
                      <a:pt x="728" y="801"/>
                    </a:lnTo>
                    <a:lnTo>
                      <a:pt x="739" y="810"/>
                    </a:lnTo>
                    <a:lnTo>
                      <a:pt x="744" y="815"/>
                    </a:lnTo>
                    <a:lnTo>
                      <a:pt x="750" y="819"/>
                    </a:lnTo>
                    <a:lnTo>
                      <a:pt x="762" y="827"/>
                    </a:lnTo>
                    <a:lnTo>
                      <a:pt x="774" y="834"/>
                    </a:lnTo>
                    <a:lnTo>
                      <a:pt x="788" y="841"/>
                    </a:lnTo>
                    <a:lnTo>
                      <a:pt x="802" y="847"/>
                    </a:lnTo>
                    <a:lnTo>
                      <a:pt x="809" y="849"/>
                    </a:lnTo>
                    <a:lnTo>
                      <a:pt x="816" y="851"/>
                    </a:lnTo>
                    <a:lnTo>
                      <a:pt x="831" y="855"/>
                    </a:lnTo>
                    <a:lnTo>
                      <a:pt x="847" y="858"/>
                    </a:lnTo>
                    <a:lnTo>
                      <a:pt x="862" y="860"/>
                    </a:lnTo>
                    <a:lnTo>
                      <a:pt x="878" y="861"/>
                    </a:lnTo>
                    <a:lnTo>
                      <a:pt x="894" y="861"/>
                    </a:lnTo>
                    <a:lnTo>
                      <a:pt x="910" y="859"/>
                    </a:lnTo>
                    <a:lnTo>
                      <a:pt x="926" y="857"/>
                    </a:lnTo>
                    <a:lnTo>
                      <a:pt x="934" y="856"/>
                    </a:lnTo>
                    <a:lnTo>
                      <a:pt x="942" y="854"/>
                    </a:lnTo>
                    <a:lnTo>
                      <a:pt x="950" y="853"/>
                    </a:lnTo>
                    <a:lnTo>
                      <a:pt x="957" y="851"/>
                    </a:lnTo>
                    <a:lnTo>
                      <a:pt x="972" y="846"/>
                    </a:lnTo>
                    <a:lnTo>
                      <a:pt x="987" y="841"/>
                    </a:lnTo>
                    <a:lnTo>
                      <a:pt x="1001" y="835"/>
                    </a:lnTo>
                    <a:lnTo>
                      <a:pt x="1008" y="832"/>
                    </a:lnTo>
                    <a:lnTo>
                      <a:pt x="1015" y="828"/>
                    </a:lnTo>
                    <a:lnTo>
                      <a:pt x="1028" y="821"/>
                    </a:lnTo>
                    <a:lnTo>
                      <a:pt x="1041" y="813"/>
                    </a:lnTo>
                    <a:lnTo>
                      <a:pt x="1054" y="804"/>
                    </a:lnTo>
                    <a:lnTo>
                      <a:pt x="1066" y="795"/>
                    </a:lnTo>
                    <a:lnTo>
                      <a:pt x="1078" y="785"/>
                    </a:lnTo>
                    <a:lnTo>
                      <a:pt x="1089" y="774"/>
                    </a:lnTo>
                    <a:lnTo>
                      <a:pt x="1100" y="763"/>
                    </a:lnTo>
                    <a:lnTo>
                      <a:pt x="1110" y="752"/>
                    </a:lnTo>
                    <a:lnTo>
                      <a:pt x="1115" y="745"/>
                    </a:lnTo>
                    <a:lnTo>
                      <a:pt x="1120" y="739"/>
                    </a:lnTo>
                    <a:lnTo>
                      <a:pt x="1129" y="727"/>
                    </a:lnTo>
                    <a:lnTo>
                      <a:pt x="1138" y="713"/>
                    </a:lnTo>
                    <a:lnTo>
                      <a:pt x="1146" y="700"/>
                    </a:lnTo>
                    <a:lnTo>
                      <a:pt x="1154" y="686"/>
                    </a:lnTo>
                    <a:lnTo>
                      <a:pt x="1161" y="671"/>
                    </a:lnTo>
                    <a:lnTo>
                      <a:pt x="1167" y="656"/>
                    </a:lnTo>
                    <a:lnTo>
                      <a:pt x="1173" y="641"/>
                    </a:lnTo>
                    <a:lnTo>
                      <a:pt x="1179" y="625"/>
                    </a:lnTo>
                    <a:lnTo>
                      <a:pt x="1183" y="609"/>
                    </a:lnTo>
                    <a:lnTo>
                      <a:pt x="1187" y="593"/>
                    </a:lnTo>
                    <a:lnTo>
                      <a:pt x="1190" y="576"/>
                    </a:lnTo>
                    <a:lnTo>
                      <a:pt x="1193" y="559"/>
                    </a:lnTo>
                    <a:lnTo>
                      <a:pt x="1195" y="542"/>
                    </a:lnTo>
                    <a:lnTo>
                      <a:pt x="1196" y="525"/>
                    </a:lnTo>
                    <a:lnTo>
                      <a:pt x="1196" y="507"/>
                    </a:lnTo>
                    <a:lnTo>
                      <a:pt x="1196" y="490"/>
                    </a:lnTo>
                    <a:lnTo>
                      <a:pt x="1195" y="473"/>
                    </a:lnTo>
                    <a:lnTo>
                      <a:pt x="1193" y="455"/>
                    </a:lnTo>
                    <a:lnTo>
                      <a:pt x="1191" y="438"/>
                    </a:lnTo>
                    <a:lnTo>
                      <a:pt x="1187" y="419"/>
                    </a:lnTo>
                    <a:lnTo>
                      <a:pt x="1184" y="402"/>
                    </a:lnTo>
                    <a:lnTo>
                      <a:pt x="1179" y="384"/>
                    </a:lnTo>
                    <a:lnTo>
                      <a:pt x="1174" y="367"/>
                    </a:lnTo>
                    <a:lnTo>
                      <a:pt x="1168" y="349"/>
                    </a:lnTo>
                    <a:lnTo>
                      <a:pt x="1161" y="331"/>
                    </a:lnTo>
                    <a:lnTo>
                      <a:pt x="1154" y="314"/>
                    </a:lnTo>
                    <a:lnTo>
                      <a:pt x="1146" y="296"/>
                    </a:lnTo>
                    <a:lnTo>
                      <a:pt x="1137" y="279"/>
                    </a:lnTo>
                    <a:lnTo>
                      <a:pt x="1128" y="261"/>
                    </a:lnTo>
                    <a:lnTo>
                      <a:pt x="1117" y="244"/>
                    </a:lnTo>
                    <a:lnTo>
                      <a:pt x="1106" y="227"/>
                    </a:lnTo>
                    <a:lnTo>
                      <a:pt x="1095" y="210"/>
                    </a:lnTo>
                    <a:lnTo>
                      <a:pt x="1082" y="194"/>
                    </a:lnTo>
                    <a:lnTo>
                      <a:pt x="1069" y="178"/>
                    </a:lnTo>
                    <a:lnTo>
                      <a:pt x="1055" y="162"/>
                    </a:lnTo>
                    <a:lnTo>
                      <a:pt x="1040" y="146"/>
                    </a:lnTo>
                    <a:lnTo>
                      <a:pt x="1025" y="130"/>
                    </a:lnTo>
                    <a:lnTo>
                      <a:pt x="1009" y="115"/>
                    </a:lnTo>
                    <a:lnTo>
                      <a:pt x="992" y="101"/>
                    </a:lnTo>
                    <a:lnTo>
                      <a:pt x="974" y="86"/>
                    </a:lnTo>
                    <a:lnTo>
                      <a:pt x="955" y="73"/>
                    </a:lnTo>
                    <a:lnTo>
                      <a:pt x="936" y="59"/>
                    </a:lnTo>
                    <a:lnTo>
                      <a:pt x="916" y="46"/>
                    </a:lnTo>
                    <a:lnTo>
                      <a:pt x="895" y="34"/>
                    </a:lnTo>
                    <a:lnTo>
                      <a:pt x="873" y="22"/>
                    </a:lnTo>
                    <a:lnTo>
                      <a:pt x="862" y="16"/>
                    </a:lnTo>
                    <a:lnTo>
                      <a:pt x="851" y="11"/>
                    </a:lnTo>
                    <a:lnTo>
                      <a:pt x="828" y="0"/>
                    </a:lnTo>
                    <a:close/>
                    <a:moveTo>
                      <a:pt x="790" y="552"/>
                    </a:moveTo>
                    <a:lnTo>
                      <a:pt x="793" y="546"/>
                    </a:lnTo>
                    <a:lnTo>
                      <a:pt x="796" y="540"/>
                    </a:lnTo>
                    <a:lnTo>
                      <a:pt x="798" y="534"/>
                    </a:lnTo>
                    <a:lnTo>
                      <a:pt x="800" y="527"/>
                    </a:lnTo>
                    <a:lnTo>
                      <a:pt x="801" y="521"/>
                    </a:lnTo>
                    <a:lnTo>
                      <a:pt x="802" y="513"/>
                    </a:lnTo>
                    <a:lnTo>
                      <a:pt x="802" y="506"/>
                    </a:lnTo>
                    <a:lnTo>
                      <a:pt x="802" y="498"/>
                    </a:lnTo>
                    <a:lnTo>
                      <a:pt x="801" y="482"/>
                    </a:lnTo>
                    <a:lnTo>
                      <a:pt x="799" y="474"/>
                    </a:lnTo>
                    <a:lnTo>
                      <a:pt x="797" y="465"/>
                    </a:lnTo>
                    <a:lnTo>
                      <a:pt x="795" y="457"/>
                    </a:lnTo>
                    <a:lnTo>
                      <a:pt x="792" y="448"/>
                    </a:lnTo>
                    <a:lnTo>
                      <a:pt x="786" y="429"/>
                    </a:lnTo>
                    <a:lnTo>
                      <a:pt x="782" y="421"/>
                    </a:lnTo>
                    <a:lnTo>
                      <a:pt x="777" y="412"/>
                    </a:lnTo>
                    <a:lnTo>
                      <a:pt x="772" y="403"/>
                    </a:lnTo>
                    <a:lnTo>
                      <a:pt x="767" y="395"/>
                    </a:lnTo>
                    <a:lnTo>
                      <a:pt x="755" y="378"/>
                    </a:lnTo>
                    <a:lnTo>
                      <a:pt x="749" y="370"/>
                    </a:lnTo>
                    <a:lnTo>
                      <a:pt x="742" y="362"/>
                    </a:lnTo>
                    <a:lnTo>
                      <a:pt x="734" y="354"/>
                    </a:lnTo>
                    <a:lnTo>
                      <a:pt x="727" y="346"/>
                    </a:lnTo>
                    <a:lnTo>
                      <a:pt x="718" y="339"/>
                    </a:lnTo>
                    <a:lnTo>
                      <a:pt x="710" y="331"/>
                    </a:lnTo>
                    <a:lnTo>
                      <a:pt x="701" y="325"/>
                    </a:lnTo>
                    <a:lnTo>
                      <a:pt x="691" y="318"/>
                    </a:lnTo>
                    <a:lnTo>
                      <a:pt x="681" y="312"/>
                    </a:lnTo>
                    <a:lnTo>
                      <a:pt x="671" y="306"/>
                    </a:lnTo>
                    <a:lnTo>
                      <a:pt x="653" y="297"/>
                    </a:lnTo>
                    <a:lnTo>
                      <a:pt x="643" y="293"/>
                    </a:lnTo>
                    <a:lnTo>
                      <a:pt x="633" y="289"/>
                    </a:lnTo>
                    <a:lnTo>
                      <a:pt x="612" y="282"/>
                    </a:lnTo>
                    <a:lnTo>
                      <a:pt x="588" y="276"/>
                    </a:lnTo>
                    <a:lnTo>
                      <a:pt x="576" y="273"/>
                    </a:lnTo>
                    <a:lnTo>
                      <a:pt x="564" y="271"/>
                    </a:lnTo>
                    <a:lnTo>
                      <a:pt x="539" y="267"/>
                    </a:lnTo>
                    <a:lnTo>
                      <a:pt x="512" y="264"/>
                    </a:lnTo>
                    <a:lnTo>
                      <a:pt x="498" y="263"/>
                    </a:lnTo>
                    <a:lnTo>
                      <a:pt x="484" y="263"/>
                    </a:lnTo>
                    <a:lnTo>
                      <a:pt x="469" y="263"/>
                    </a:lnTo>
                    <a:lnTo>
                      <a:pt x="455" y="263"/>
                    </a:lnTo>
                    <a:lnTo>
                      <a:pt x="440" y="264"/>
                    </a:lnTo>
                    <a:lnTo>
                      <a:pt x="425" y="265"/>
                    </a:lnTo>
                    <a:lnTo>
                      <a:pt x="409" y="266"/>
                    </a:lnTo>
                    <a:lnTo>
                      <a:pt x="393" y="268"/>
                    </a:lnTo>
                    <a:lnTo>
                      <a:pt x="378" y="270"/>
                    </a:lnTo>
                    <a:lnTo>
                      <a:pt x="361" y="273"/>
                    </a:lnTo>
                    <a:lnTo>
                      <a:pt x="345" y="276"/>
                    </a:lnTo>
                    <a:lnTo>
                      <a:pt x="329" y="280"/>
                    </a:lnTo>
                    <a:lnTo>
                      <a:pt x="295" y="289"/>
                    </a:lnTo>
                    <a:lnTo>
                      <a:pt x="278" y="294"/>
                    </a:lnTo>
                    <a:lnTo>
                      <a:pt x="261" y="300"/>
                    </a:lnTo>
                    <a:lnTo>
                      <a:pt x="243" y="307"/>
                    </a:lnTo>
                    <a:lnTo>
                      <a:pt x="226" y="313"/>
                    </a:lnTo>
                    <a:lnTo>
                      <a:pt x="201" y="324"/>
                    </a:lnTo>
                    <a:lnTo>
                      <a:pt x="178" y="334"/>
                    </a:lnTo>
                    <a:lnTo>
                      <a:pt x="157" y="345"/>
                    </a:lnTo>
                    <a:lnTo>
                      <a:pt x="138" y="355"/>
                    </a:lnTo>
                    <a:lnTo>
                      <a:pt x="120" y="365"/>
                    </a:lnTo>
                    <a:lnTo>
                      <a:pt x="105" y="375"/>
                    </a:lnTo>
                    <a:lnTo>
                      <a:pt x="90" y="385"/>
                    </a:lnTo>
                    <a:lnTo>
                      <a:pt x="84" y="390"/>
                    </a:lnTo>
                    <a:lnTo>
                      <a:pt x="77" y="395"/>
                    </a:lnTo>
                    <a:lnTo>
                      <a:pt x="71" y="400"/>
                    </a:lnTo>
                    <a:lnTo>
                      <a:pt x="65" y="405"/>
                    </a:lnTo>
                    <a:lnTo>
                      <a:pt x="54" y="415"/>
                    </a:lnTo>
                    <a:lnTo>
                      <a:pt x="44" y="425"/>
                    </a:lnTo>
                    <a:lnTo>
                      <a:pt x="35" y="436"/>
                    </a:lnTo>
                    <a:lnTo>
                      <a:pt x="17" y="456"/>
                    </a:lnTo>
                    <a:lnTo>
                      <a:pt x="0" y="476"/>
                    </a:lnTo>
                    <a:lnTo>
                      <a:pt x="5" y="488"/>
                    </a:lnTo>
                    <a:lnTo>
                      <a:pt x="11" y="499"/>
                    </a:lnTo>
                    <a:lnTo>
                      <a:pt x="18" y="511"/>
                    </a:lnTo>
                    <a:lnTo>
                      <a:pt x="26" y="523"/>
                    </a:lnTo>
                    <a:lnTo>
                      <a:pt x="35" y="535"/>
                    </a:lnTo>
                    <a:lnTo>
                      <a:pt x="45" y="547"/>
                    </a:lnTo>
                    <a:lnTo>
                      <a:pt x="56" y="559"/>
                    </a:lnTo>
                    <a:lnTo>
                      <a:pt x="68" y="571"/>
                    </a:lnTo>
                    <a:lnTo>
                      <a:pt x="80" y="583"/>
                    </a:lnTo>
                    <a:lnTo>
                      <a:pt x="86" y="589"/>
                    </a:lnTo>
                    <a:lnTo>
                      <a:pt x="92" y="595"/>
                    </a:lnTo>
                    <a:lnTo>
                      <a:pt x="105" y="606"/>
                    </a:lnTo>
                    <a:lnTo>
                      <a:pt x="119" y="618"/>
                    </a:lnTo>
                    <a:lnTo>
                      <a:pt x="146" y="641"/>
                    </a:lnTo>
                    <a:lnTo>
                      <a:pt x="174" y="664"/>
                    </a:lnTo>
                    <a:lnTo>
                      <a:pt x="182" y="670"/>
                    </a:lnTo>
                    <a:lnTo>
                      <a:pt x="192" y="677"/>
                    </a:lnTo>
                    <a:lnTo>
                      <a:pt x="202" y="683"/>
                    </a:lnTo>
                    <a:lnTo>
                      <a:pt x="213" y="690"/>
                    </a:lnTo>
                    <a:lnTo>
                      <a:pt x="225" y="696"/>
                    </a:lnTo>
                    <a:lnTo>
                      <a:pt x="238" y="702"/>
                    </a:lnTo>
                    <a:lnTo>
                      <a:pt x="251" y="708"/>
                    </a:lnTo>
                    <a:lnTo>
                      <a:pt x="264" y="714"/>
                    </a:lnTo>
                    <a:lnTo>
                      <a:pt x="294" y="725"/>
                    </a:lnTo>
                    <a:lnTo>
                      <a:pt x="324" y="735"/>
                    </a:lnTo>
                    <a:lnTo>
                      <a:pt x="340" y="740"/>
                    </a:lnTo>
                    <a:lnTo>
                      <a:pt x="356" y="744"/>
                    </a:lnTo>
                    <a:lnTo>
                      <a:pt x="373" y="748"/>
                    </a:lnTo>
                    <a:lnTo>
                      <a:pt x="390" y="752"/>
                    </a:lnTo>
                    <a:lnTo>
                      <a:pt x="424" y="758"/>
                    </a:lnTo>
                    <a:lnTo>
                      <a:pt x="441" y="760"/>
                    </a:lnTo>
                    <a:lnTo>
                      <a:pt x="458" y="762"/>
                    </a:lnTo>
                    <a:lnTo>
                      <a:pt x="475" y="764"/>
                    </a:lnTo>
                    <a:lnTo>
                      <a:pt x="492" y="765"/>
                    </a:lnTo>
                    <a:lnTo>
                      <a:pt x="509" y="766"/>
                    </a:lnTo>
                    <a:lnTo>
                      <a:pt x="526" y="766"/>
                    </a:lnTo>
                    <a:lnTo>
                      <a:pt x="542" y="765"/>
                    </a:lnTo>
                    <a:lnTo>
                      <a:pt x="559" y="765"/>
                    </a:lnTo>
                    <a:lnTo>
                      <a:pt x="575" y="763"/>
                    </a:lnTo>
                    <a:lnTo>
                      <a:pt x="590" y="761"/>
                    </a:lnTo>
                    <a:lnTo>
                      <a:pt x="607" y="758"/>
                    </a:lnTo>
                    <a:lnTo>
                      <a:pt x="621" y="755"/>
                    </a:lnTo>
                    <a:lnTo>
                      <a:pt x="636" y="751"/>
                    </a:lnTo>
                    <a:lnTo>
                      <a:pt x="650" y="747"/>
                    </a:lnTo>
                    <a:lnTo>
                      <a:pt x="646" y="736"/>
                    </a:lnTo>
                    <a:lnTo>
                      <a:pt x="643" y="725"/>
                    </a:lnTo>
                    <a:lnTo>
                      <a:pt x="641" y="714"/>
                    </a:lnTo>
                    <a:lnTo>
                      <a:pt x="639" y="704"/>
                    </a:lnTo>
                    <a:lnTo>
                      <a:pt x="638" y="689"/>
                    </a:lnTo>
                    <a:lnTo>
                      <a:pt x="638" y="683"/>
                    </a:lnTo>
                    <a:lnTo>
                      <a:pt x="632" y="686"/>
                    </a:lnTo>
                    <a:lnTo>
                      <a:pt x="625" y="689"/>
                    </a:lnTo>
                    <a:lnTo>
                      <a:pt x="616" y="693"/>
                    </a:lnTo>
                    <a:lnTo>
                      <a:pt x="606" y="696"/>
                    </a:lnTo>
                    <a:lnTo>
                      <a:pt x="593" y="698"/>
                    </a:lnTo>
                    <a:lnTo>
                      <a:pt x="580" y="700"/>
                    </a:lnTo>
                    <a:lnTo>
                      <a:pt x="566" y="702"/>
                    </a:lnTo>
                    <a:lnTo>
                      <a:pt x="551" y="704"/>
                    </a:lnTo>
                    <a:lnTo>
                      <a:pt x="535" y="705"/>
                    </a:lnTo>
                    <a:lnTo>
                      <a:pt x="518" y="705"/>
                    </a:lnTo>
                    <a:lnTo>
                      <a:pt x="500" y="705"/>
                    </a:lnTo>
                    <a:lnTo>
                      <a:pt x="481" y="704"/>
                    </a:lnTo>
                    <a:lnTo>
                      <a:pt x="462" y="703"/>
                    </a:lnTo>
                    <a:lnTo>
                      <a:pt x="442" y="701"/>
                    </a:lnTo>
                    <a:lnTo>
                      <a:pt x="422" y="698"/>
                    </a:lnTo>
                    <a:lnTo>
                      <a:pt x="401" y="694"/>
                    </a:lnTo>
                    <a:lnTo>
                      <a:pt x="380" y="689"/>
                    </a:lnTo>
                    <a:lnTo>
                      <a:pt x="359" y="684"/>
                    </a:lnTo>
                    <a:lnTo>
                      <a:pt x="337" y="677"/>
                    </a:lnTo>
                    <a:lnTo>
                      <a:pt x="316" y="669"/>
                    </a:lnTo>
                    <a:lnTo>
                      <a:pt x="294" y="661"/>
                    </a:lnTo>
                    <a:lnTo>
                      <a:pt x="273" y="651"/>
                    </a:lnTo>
                    <a:lnTo>
                      <a:pt x="262" y="646"/>
                    </a:lnTo>
                    <a:lnTo>
                      <a:pt x="251" y="640"/>
                    </a:lnTo>
                    <a:lnTo>
                      <a:pt x="241" y="634"/>
                    </a:lnTo>
                    <a:lnTo>
                      <a:pt x="231" y="628"/>
                    </a:lnTo>
                    <a:lnTo>
                      <a:pt x="220" y="621"/>
                    </a:lnTo>
                    <a:lnTo>
                      <a:pt x="210" y="614"/>
                    </a:lnTo>
                    <a:lnTo>
                      <a:pt x="190" y="600"/>
                    </a:lnTo>
                    <a:lnTo>
                      <a:pt x="180" y="592"/>
                    </a:lnTo>
                    <a:lnTo>
                      <a:pt x="170" y="583"/>
                    </a:lnTo>
                    <a:lnTo>
                      <a:pt x="161" y="575"/>
                    </a:lnTo>
                    <a:lnTo>
                      <a:pt x="151" y="566"/>
                    </a:lnTo>
                    <a:lnTo>
                      <a:pt x="142" y="557"/>
                    </a:lnTo>
                    <a:lnTo>
                      <a:pt x="133" y="547"/>
                    </a:lnTo>
                    <a:lnTo>
                      <a:pt x="124" y="537"/>
                    </a:lnTo>
                    <a:lnTo>
                      <a:pt x="116" y="526"/>
                    </a:lnTo>
                    <a:lnTo>
                      <a:pt x="107" y="516"/>
                    </a:lnTo>
                    <a:lnTo>
                      <a:pt x="99" y="504"/>
                    </a:lnTo>
                    <a:lnTo>
                      <a:pt x="91" y="493"/>
                    </a:lnTo>
                    <a:lnTo>
                      <a:pt x="83" y="481"/>
                    </a:lnTo>
                    <a:lnTo>
                      <a:pt x="85" y="477"/>
                    </a:lnTo>
                    <a:lnTo>
                      <a:pt x="88" y="473"/>
                    </a:lnTo>
                    <a:lnTo>
                      <a:pt x="97" y="463"/>
                    </a:lnTo>
                    <a:lnTo>
                      <a:pt x="108" y="451"/>
                    </a:lnTo>
                    <a:lnTo>
                      <a:pt x="122" y="439"/>
                    </a:lnTo>
                    <a:lnTo>
                      <a:pt x="131" y="433"/>
                    </a:lnTo>
                    <a:lnTo>
                      <a:pt x="139" y="425"/>
                    </a:lnTo>
                    <a:lnTo>
                      <a:pt x="159" y="411"/>
                    </a:lnTo>
                    <a:lnTo>
                      <a:pt x="170" y="404"/>
                    </a:lnTo>
                    <a:lnTo>
                      <a:pt x="181" y="397"/>
                    </a:lnTo>
                    <a:lnTo>
                      <a:pt x="205" y="384"/>
                    </a:lnTo>
                    <a:lnTo>
                      <a:pt x="218" y="377"/>
                    </a:lnTo>
                    <a:lnTo>
                      <a:pt x="232" y="371"/>
                    </a:lnTo>
                    <a:lnTo>
                      <a:pt x="246" y="364"/>
                    </a:lnTo>
                    <a:lnTo>
                      <a:pt x="261" y="358"/>
                    </a:lnTo>
                    <a:lnTo>
                      <a:pt x="276" y="352"/>
                    </a:lnTo>
                    <a:lnTo>
                      <a:pt x="291" y="347"/>
                    </a:lnTo>
                    <a:lnTo>
                      <a:pt x="307" y="342"/>
                    </a:lnTo>
                    <a:lnTo>
                      <a:pt x="323" y="337"/>
                    </a:lnTo>
                    <a:lnTo>
                      <a:pt x="340" y="333"/>
                    </a:lnTo>
                    <a:lnTo>
                      <a:pt x="357" y="329"/>
                    </a:lnTo>
                    <a:lnTo>
                      <a:pt x="375" y="326"/>
                    </a:lnTo>
                    <a:lnTo>
                      <a:pt x="393" y="323"/>
                    </a:lnTo>
                    <a:lnTo>
                      <a:pt x="411" y="321"/>
                    </a:lnTo>
                    <a:lnTo>
                      <a:pt x="421" y="320"/>
                    </a:lnTo>
                    <a:lnTo>
                      <a:pt x="430" y="319"/>
                    </a:lnTo>
                    <a:lnTo>
                      <a:pt x="449" y="318"/>
                    </a:lnTo>
                    <a:lnTo>
                      <a:pt x="468" y="318"/>
                    </a:lnTo>
                    <a:lnTo>
                      <a:pt x="483" y="318"/>
                    </a:lnTo>
                    <a:lnTo>
                      <a:pt x="498" y="319"/>
                    </a:lnTo>
                    <a:lnTo>
                      <a:pt x="512" y="320"/>
                    </a:lnTo>
                    <a:lnTo>
                      <a:pt x="518" y="321"/>
                    </a:lnTo>
                    <a:lnTo>
                      <a:pt x="525" y="322"/>
                    </a:lnTo>
                    <a:lnTo>
                      <a:pt x="538" y="323"/>
                    </a:lnTo>
                    <a:lnTo>
                      <a:pt x="551" y="325"/>
                    </a:lnTo>
                    <a:lnTo>
                      <a:pt x="575" y="330"/>
                    </a:lnTo>
                    <a:lnTo>
                      <a:pt x="599" y="337"/>
                    </a:lnTo>
                    <a:lnTo>
                      <a:pt x="620" y="344"/>
                    </a:lnTo>
                    <a:lnTo>
                      <a:pt x="629" y="348"/>
                    </a:lnTo>
                    <a:lnTo>
                      <a:pt x="639" y="352"/>
                    </a:lnTo>
                    <a:lnTo>
                      <a:pt x="656" y="362"/>
                    </a:lnTo>
                    <a:lnTo>
                      <a:pt x="664" y="367"/>
                    </a:lnTo>
                    <a:lnTo>
                      <a:pt x="672" y="372"/>
                    </a:lnTo>
                    <a:lnTo>
                      <a:pt x="686" y="384"/>
                    </a:lnTo>
                    <a:lnTo>
                      <a:pt x="692" y="390"/>
                    </a:lnTo>
                    <a:lnTo>
                      <a:pt x="698" y="396"/>
                    </a:lnTo>
                    <a:lnTo>
                      <a:pt x="704" y="402"/>
                    </a:lnTo>
                    <a:lnTo>
                      <a:pt x="709" y="409"/>
                    </a:lnTo>
                    <a:lnTo>
                      <a:pt x="714" y="416"/>
                    </a:lnTo>
                    <a:lnTo>
                      <a:pt x="718" y="423"/>
                    </a:lnTo>
                    <a:lnTo>
                      <a:pt x="722" y="430"/>
                    </a:lnTo>
                    <a:lnTo>
                      <a:pt x="725" y="438"/>
                    </a:lnTo>
                    <a:lnTo>
                      <a:pt x="728" y="446"/>
                    </a:lnTo>
                    <a:lnTo>
                      <a:pt x="731" y="453"/>
                    </a:lnTo>
                    <a:lnTo>
                      <a:pt x="733" y="461"/>
                    </a:lnTo>
                    <a:lnTo>
                      <a:pt x="735" y="469"/>
                    </a:lnTo>
                    <a:lnTo>
                      <a:pt x="736" y="476"/>
                    </a:lnTo>
                    <a:lnTo>
                      <a:pt x="737" y="483"/>
                    </a:lnTo>
                    <a:lnTo>
                      <a:pt x="738" y="490"/>
                    </a:lnTo>
                    <a:lnTo>
                      <a:pt x="738" y="496"/>
                    </a:lnTo>
                    <a:lnTo>
                      <a:pt x="737" y="501"/>
                    </a:lnTo>
                    <a:lnTo>
                      <a:pt x="736" y="507"/>
                    </a:lnTo>
                    <a:lnTo>
                      <a:pt x="733" y="516"/>
                    </a:lnTo>
                    <a:lnTo>
                      <a:pt x="729" y="525"/>
                    </a:lnTo>
                    <a:lnTo>
                      <a:pt x="727" y="528"/>
                    </a:lnTo>
                    <a:lnTo>
                      <a:pt x="724" y="531"/>
                    </a:lnTo>
                    <a:lnTo>
                      <a:pt x="722" y="534"/>
                    </a:lnTo>
                    <a:lnTo>
                      <a:pt x="719" y="537"/>
                    </a:lnTo>
                    <a:lnTo>
                      <a:pt x="713" y="541"/>
                    </a:lnTo>
                    <a:lnTo>
                      <a:pt x="706" y="544"/>
                    </a:lnTo>
                    <a:lnTo>
                      <a:pt x="700" y="547"/>
                    </a:lnTo>
                    <a:lnTo>
                      <a:pt x="694" y="548"/>
                    </a:lnTo>
                    <a:lnTo>
                      <a:pt x="691" y="548"/>
                    </a:lnTo>
                    <a:lnTo>
                      <a:pt x="688" y="548"/>
                    </a:lnTo>
                    <a:lnTo>
                      <a:pt x="684" y="548"/>
                    </a:lnTo>
                    <a:lnTo>
                      <a:pt x="680" y="547"/>
                    </a:lnTo>
                    <a:lnTo>
                      <a:pt x="677" y="545"/>
                    </a:lnTo>
                    <a:lnTo>
                      <a:pt x="676" y="544"/>
                    </a:lnTo>
                    <a:lnTo>
                      <a:pt x="676" y="542"/>
                    </a:lnTo>
                    <a:lnTo>
                      <a:pt x="679" y="536"/>
                    </a:lnTo>
                    <a:lnTo>
                      <a:pt x="680" y="533"/>
                    </a:lnTo>
                    <a:lnTo>
                      <a:pt x="681" y="530"/>
                    </a:lnTo>
                    <a:lnTo>
                      <a:pt x="682" y="524"/>
                    </a:lnTo>
                    <a:lnTo>
                      <a:pt x="682" y="518"/>
                    </a:lnTo>
                    <a:lnTo>
                      <a:pt x="681" y="512"/>
                    </a:lnTo>
                    <a:lnTo>
                      <a:pt x="679" y="507"/>
                    </a:lnTo>
                    <a:lnTo>
                      <a:pt x="676" y="502"/>
                    </a:lnTo>
                    <a:lnTo>
                      <a:pt x="673" y="497"/>
                    </a:lnTo>
                    <a:lnTo>
                      <a:pt x="669" y="492"/>
                    </a:lnTo>
                    <a:lnTo>
                      <a:pt x="665" y="488"/>
                    </a:lnTo>
                    <a:lnTo>
                      <a:pt x="660" y="485"/>
                    </a:lnTo>
                    <a:lnTo>
                      <a:pt x="655" y="482"/>
                    </a:lnTo>
                    <a:lnTo>
                      <a:pt x="649" y="479"/>
                    </a:lnTo>
                    <a:lnTo>
                      <a:pt x="644" y="477"/>
                    </a:lnTo>
                    <a:lnTo>
                      <a:pt x="638" y="476"/>
                    </a:lnTo>
                    <a:lnTo>
                      <a:pt x="633" y="476"/>
                    </a:lnTo>
                    <a:lnTo>
                      <a:pt x="627" y="476"/>
                    </a:lnTo>
                    <a:lnTo>
                      <a:pt x="621" y="477"/>
                    </a:lnTo>
                    <a:lnTo>
                      <a:pt x="615" y="478"/>
                    </a:lnTo>
                    <a:lnTo>
                      <a:pt x="609" y="480"/>
                    </a:lnTo>
                    <a:lnTo>
                      <a:pt x="604" y="482"/>
                    </a:lnTo>
                    <a:lnTo>
                      <a:pt x="599" y="484"/>
                    </a:lnTo>
                    <a:lnTo>
                      <a:pt x="593" y="488"/>
                    </a:lnTo>
                    <a:lnTo>
                      <a:pt x="588" y="491"/>
                    </a:lnTo>
                    <a:lnTo>
                      <a:pt x="584" y="496"/>
                    </a:lnTo>
                    <a:lnTo>
                      <a:pt x="580" y="501"/>
                    </a:lnTo>
                    <a:lnTo>
                      <a:pt x="577" y="506"/>
                    </a:lnTo>
                    <a:lnTo>
                      <a:pt x="574" y="512"/>
                    </a:lnTo>
                    <a:lnTo>
                      <a:pt x="572" y="519"/>
                    </a:lnTo>
                    <a:lnTo>
                      <a:pt x="570" y="526"/>
                    </a:lnTo>
                    <a:lnTo>
                      <a:pt x="569" y="534"/>
                    </a:lnTo>
                    <a:lnTo>
                      <a:pt x="568" y="542"/>
                    </a:lnTo>
                    <a:lnTo>
                      <a:pt x="568" y="549"/>
                    </a:lnTo>
                    <a:lnTo>
                      <a:pt x="570" y="556"/>
                    </a:lnTo>
                    <a:lnTo>
                      <a:pt x="571" y="560"/>
                    </a:lnTo>
                    <a:lnTo>
                      <a:pt x="572" y="563"/>
                    </a:lnTo>
                    <a:lnTo>
                      <a:pt x="576" y="570"/>
                    </a:lnTo>
                    <a:lnTo>
                      <a:pt x="581" y="577"/>
                    </a:lnTo>
                    <a:lnTo>
                      <a:pt x="586" y="584"/>
                    </a:lnTo>
                    <a:lnTo>
                      <a:pt x="592" y="590"/>
                    </a:lnTo>
                    <a:lnTo>
                      <a:pt x="600" y="596"/>
                    </a:lnTo>
                    <a:lnTo>
                      <a:pt x="607" y="602"/>
                    </a:lnTo>
                    <a:lnTo>
                      <a:pt x="614" y="607"/>
                    </a:lnTo>
                    <a:lnTo>
                      <a:pt x="621" y="612"/>
                    </a:lnTo>
                    <a:lnTo>
                      <a:pt x="629" y="616"/>
                    </a:lnTo>
                    <a:lnTo>
                      <a:pt x="636" y="619"/>
                    </a:lnTo>
                    <a:lnTo>
                      <a:pt x="643" y="621"/>
                    </a:lnTo>
                    <a:lnTo>
                      <a:pt x="650" y="623"/>
                    </a:lnTo>
                    <a:lnTo>
                      <a:pt x="657" y="623"/>
                    </a:lnTo>
                    <a:lnTo>
                      <a:pt x="662" y="614"/>
                    </a:lnTo>
                    <a:lnTo>
                      <a:pt x="668" y="605"/>
                    </a:lnTo>
                    <a:lnTo>
                      <a:pt x="675" y="597"/>
                    </a:lnTo>
                    <a:lnTo>
                      <a:pt x="683" y="590"/>
                    </a:lnTo>
                    <a:lnTo>
                      <a:pt x="692" y="583"/>
                    </a:lnTo>
                    <a:lnTo>
                      <a:pt x="701" y="577"/>
                    </a:lnTo>
                    <a:lnTo>
                      <a:pt x="711" y="572"/>
                    </a:lnTo>
                    <a:lnTo>
                      <a:pt x="721" y="567"/>
                    </a:lnTo>
                    <a:lnTo>
                      <a:pt x="731" y="563"/>
                    </a:lnTo>
                    <a:lnTo>
                      <a:pt x="740" y="560"/>
                    </a:lnTo>
                    <a:lnTo>
                      <a:pt x="750" y="557"/>
                    </a:lnTo>
                    <a:lnTo>
                      <a:pt x="759" y="555"/>
                    </a:lnTo>
                    <a:lnTo>
                      <a:pt x="768" y="553"/>
                    </a:lnTo>
                    <a:lnTo>
                      <a:pt x="776" y="552"/>
                    </a:lnTo>
                    <a:lnTo>
                      <a:pt x="784" y="552"/>
                    </a:lnTo>
                    <a:lnTo>
                      <a:pt x="790" y="552"/>
                    </a:lnTo>
                    <a:close/>
                  </a:path>
                </a:pathLst>
              </a:custGeom>
              <a:solidFill>
                <a:srgbClr val="224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90560" y="5052960"/>
                <a:ext cx="1470960" cy="1198440"/>
              </a:xfrm>
              <a:custGeom>
                <a:avLst/>
                <a:gdLst/>
                <a:ahLst/>
                <a:rect l="l" t="t" r="r" b="b"/>
                <a:pathLst>
                  <a:path w="976" h="755">
                    <a:moveTo>
                      <a:pt x="673" y="728"/>
                    </a:moveTo>
                    <a:lnTo>
                      <a:pt x="680" y="733"/>
                    </a:lnTo>
                    <a:lnTo>
                      <a:pt x="688" y="737"/>
                    </a:lnTo>
                    <a:lnTo>
                      <a:pt x="696" y="741"/>
                    </a:lnTo>
                    <a:lnTo>
                      <a:pt x="703" y="744"/>
                    </a:lnTo>
                    <a:lnTo>
                      <a:pt x="711" y="747"/>
                    </a:lnTo>
                    <a:lnTo>
                      <a:pt x="719" y="750"/>
                    </a:lnTo>
                    <a:lnTo>
                      <a:pt x="727" y="752"/>
                    </a:lnTo>
                    <a:lnTo>
                      <a:pt x="735" y="753"/>
                    </a:lnTo>
                    <a:lnTo>
                      <a:pt x="743" y="754"/>
                    </a:lnTo>
                    <a:lnTo>
                      <a:pt x="751" y="755"/>
                    </a:lnTo>
                    <a:lnTo>
                      <a:pt x="759" y="755"/>
                    </a:lnTo>
                    <a:lnTo>
                      <a:pt x="768" y="755"/>
                    </a:lnTo>
                    <a:lnTo>
                      <a:pt x="776" y="754"/>
                    </a:lnTo>
                    <a:lnTo>
                      <a:pt x="784" y="753"/>
                    </a:lnTo>
                    <a:lnTo>
                      <a:pt x="800" y="749"/>
                    </a:lnTo>
                    <a:lnTo>
                      <a:pt x="809" y="747"/>
                    </a:lnTo>
                    <a:lnTo>
                      <a:pt x="817" y="744"/>
                    </a:lnTo>
                    <a:lnTo>
                      <a:pt x="825" y="741"/>
                    </a:lnTo>
                    <a:lnTo>
                      <a:pt x="829" y="739"/>
                    </a:lnTo>
                    <a:lnTo>
                      <a:pt x="833" y="737"/>
                    </a:lnTo>
                    <a:lnTo>
                      <a:pt x="849" y="728"/>
                    </a:lnTo>
                    <a:lnTo>
                      <a:pt x="857" y="724"/>
                    </a:lnTo>
                    <a:lnTo>
                      <a:pt x="864" y="718"/>
                    </a:lnTo>
                    <a:lnTo>
                      <a:pt x="872" y="713"/>
                    </a:lnTo>
                    <a:lnTo>
                      <a:pt x="880" y="707"/>
                    </a:lnTo>
                    <a:lnTo>
                      <a:pt x="887" y="701"/>
                    </a:lnTo>
                    <a:lnTo>
                      <a:pt x="895" y="694"/>
                    </a:lnTo>
                    <a:lnTo>
                      <a:pt x="909" y="679"/>
                    </a:lnTo>
                    <a:lnTo>
                      <a:pt x="916" y="672"/>
                    </a:lnTo>
                    <a:lnTo>
                      <a:pt x="923" y="664"/>
                    </a:lnTo>
                    <a:lnTo>
                      <a:pt x="928" y="657"/>
                    </a:lnTo>
                    <a:lnTo>
                      <a:pt x="933" y="649"/>
                    </a:lnTo>
                    <a:lnTo>
                      <a:pt x="938" y="640"/>
                    </a:lnTo>
                    <a:lnTo>
                      <a:pt x="943" y="631"/>
                    </a:lnTo>
                    <a:lnTo>
                      <a:pt x="947" y="622"/>
                    </a:lnTo>
                    <a:lnTo>
                      <a:pt x="952" y="611"/>
                    </a:lnTo>
                    <a:lnTo>
                      <a:pt x="959" y="590"/>
                    </a:lnTo>
                    <a:lnTo>
                      <a:pt x="966" y="566"/>
                    </a:lnTo>
                    <a:lnTo>
                      <a:pt x="968" y="553"/>
                    </a:lnTo>
                    <a:lnTo>
                      <a:pt x="971" y="541"/>
                    </a:lnTo>
                    <a:lnTo>
                      <a:pt x="973" y="528"/>
                    </a:lnTo>
                    <a:lnTo>
                      <a:pt x="974" y="514"/>
                    </a:lnTo>
                    <a:lnTo>
                      <a:pt x="975" y="501"/>
                    </a:lnTo>
                    <a:lnTo>
                      <a:pt x="976" y="487"/>
                    </a:lnTo>
                    <a:lnTo>
                      <a:pt x="976" y="459"/>
                    </a:lnTo>
                    <a:lnTo>
                      <a:pt x="975" y="445"/>
                    </a:lnTo>
                    <a:lnTo>
                      <a:pt x="974" y="431"/>
                    </a:lnTo>
                    <a:lnTo>
                      <a:pt x="972" y="417"/>
                    </a:lnTo>
                    <a:lnTo>
                      <a:pt x="970" y="402"/>
                    </a:lnTo>
                    <a:lnTo>
                      <a:pt x="967" y="388"/>
                    </a:lnTo>
                    <a:lnTo>
                      <a:pt x="964" y="374"/>
                    </a:lnTo>
                    <a:lnTo>
                      <a:pt x="960" y="360"/>
                    </a:lnTo>
                    <a:lnTo>
                      <a:pt x="955" y="347"/>
                    </a:lnTo>
                    <a:lnTo>
                      <a:pt x="950" y="333"/>
                    </a:lnTo>
                    <a:lnTo>
                      <a:pt x="944" y="320"/>
                    </a:lnTo>
                    <a:lnTo>
                      <a:pt x="937" y="307"/>
                    </a:lnTo>
                    <a:lnTo>
                      <a:pt x="930" y="295"/>
                    </a:lnTo>
                    <a:lnTo>
                      <a:pt x="922" y="282"/>
                    </a:lnTo>
                    <a:lnTo>
                      <a:pt x="913" y="271"/>
                    </a:lnTo>
                    <a:lnTo>
                      <a:pt x="915" y="289"/>
                    </a:lnTo>
                    <a:lnTo>
                      <a:pt x="916" y="299"/>
                    </a:lnTo>
                    <a:lnTo>
                      <a:pt x="917" y="309"/>
                    </a:lnTo>
                    <a:lnTo>
                      <a:pt x="917" y="320"/>
                    </a:lnTo>
                    <a:lnTo>
                      <a:pt x="916" y="331"/>
                    </a:lnTo>
                    <a:lnTo>
                      <a:pt x="916" y="343"/>
                    </a:lnTo>
                    <a:lnTo>
                      <a:pt x="915" y="354"/>
                    </a:lnTo>
                    <a:lnTo>
                      <a:pt x="913" y="366"/>
                    </a:lnTo>
                    <a:lnTo>
                      <a:pt x="911" y="379"/>
                    </a:lnTo>
                    <a:lnTo>
                      <a:pt x="907" y="403"/>
                    </a:lnTo>
                    <a:lnTo>
                      <a:pt x="901" y="429"/>
                    </a:lnTo>
                    <a:lnTo>
                      <a:pt x="893" y="454"/>
                    </a:lnTo>
                    <a:lnTo>
                      <a:pt x="889" y="466"/>
                    </a:lnTo>
                    <a:lnTo>
                      <a:pt x="884" y="478"/>
                    </a:lnTo>
                    <a:lnTo>
                      <a:pt x="879" y="490"/>
                    </a:lnTo>
                    <a:lnTo>
                      <a:pt x="873" y="502"/>
                    </a:lnTo>
                    <a:lnTo>
                      <a:pt x="867" y="514"/>
                    </a:lnTo>
                    <a:lnTo>
                      <a:pt x="861" y="525"/>
                    </a:lnTo>
                    <a:lnTo>
                      <a:pt x="854" y="536"/>
                    </a:lnTo>
                    <a:lnTo>
                      <a:pt x="847" y="546"/>
                    </a:lnTo>
                    <a:lnTo>
                      <a:pt x="840" y="556"/>
                    </a:lnTo>
                    <a:lnTo>
                      <a:pt x="832" y="566"/>
                    </a:lnTo>
                    <a:lnTo>
                      <a:pt x="823" y="575"/>
                    </a:lnTo>
                    <a:lnTo>
                      <a:pt x="815" y="583"/>
                    </a:lnTo>
                    <a:lnTo>
                      <a:pt x="805" y="591"/>
                    </a:lnTo>
                    <a:lnTo>
                      <a:pt x="796" y="599"/>
                    </a:lnTo>
                    <a:lnTo>
                      <a:pt x="786" y="605"/>
                    </a:lnTo>
                    <a:lnTo>
                      <a:pt x="775" y="611"/>
                    </a:lnTo>
                    <a:lnTo>
                      <a:pt x="777" y="617"/>
                    </a:lnTo>
                    <a:lnTo>
                      <a:pt x="778" y="622"/>
                    </a:lnTo>
                    <a:lnTo>
                      <a:pt x="779" y="628"/>
                    </a:lnTo>
                    <a:lnTo>
                      <a:pt x="779" y="633"/>
                    </a:lnTo>
                    <a:lnTo>
                      <a:pt x="779" y="644"/>
                    </a:lnTo>
                    <a:lnTo>
                      <a:pt x="778" y="655"/>
                    </a:lnTo>
                    <a:lnTo>
                      <a:pt x="776" y="665"/>
                    </a:lnTo>
                    <a:lnTo>
                      <a:pt x="774" y="673"/>
                    </a:lnTo>
                    <a:lnTo>
                      <a:pt x="770" y="681"/>
                    </a:lnTo>
                    <a:lnTo>
                      <a:pt x="766" y="687"/>
                    </a:lnTo>
                    <a:lnTo>
                      <a:pt x="760" y="694"/>
                    </a:lnTo>
                    <a:lnTo>
                      <a:pt x="756" y="698"/>
                    </a:lnTo>
                    <a:lnTo>
                      <a:pt x="752" y="702"/>
                    </a:lnTo>
                    <a:lnTo>
                      <a:pt x="748" y="706"/>
                    </a:lnTo>
                    <a:lnTo>
                      <a:pt x="743" y="710"/>
                    </a:lnTo>
                    <a:lnTo>
                      <a:pt x="732" y="717"/>
                    </a:lnTo>
                    <a:lnTo>
                      <a:pt x="726" y="721"/>
                    </a:lnTo>
                    <a:lnTo>
                      <a:pt x="720" y="724"/>
                    </a:lnTo>
                    <a:lnTo>
                      <a:pt x="713" y="726"/>
                    </a:lnTo>
                    <a:lnTo>
                      <a:pt x="706" y="728"/>
                    </a:lnTo>
                    <a:lnTo>
                      <a:pt x="698" y="729"/>
                    </a:lnTo>
                    <a:lnTo>
                      <a:pt x="690" y="729"/>
                    </a:lnTo>
                    <a:lnTo>
                      <a:pt x="686" y="729"/>
                    </a:lnTo>
                    <a:lnTo>
                      <a:pt x="682" y="729"/>
                    </a:lnTo>
                    <a:lnTo>
                      <a:pt x="673" y="728"/>
                    </a:lnTo>
                    <a:close/>
                    <a:moveTo>
                      <a:pt x="668" y="0"/>
                    </a:moveTo>
                    <a:lnTo>
                      <a:pt x="674" y="5"/>
                    </a:lnTo>
                    <a:lnTo>
                      <a:pt x="681" y="11"/>
                    </a:lnTo>
                    <a:lnTo>
                      <a:pt x="688" y="18"/>
                    </a:lnTo>
                    <a:lnTo>
                      <a:pt x="695" y="27"/>
                    </a:lnTo>
                    <a:lnTo>
                      <a:pt x="703" y="36"/>
                    </a:lnTo>
                    <a:lnTo>
                      <a:pt x="711" y="47"/>
                    </a:lnTo>
                    <a:lnTo>
                      <a:pt x="719" y="59"/>
                    </a:lnTo>
                    <a:lnTo>
                      <a:pt x="727" y="71"/>
                    </a:lnTo>
                    <a:lnTo>
                      <a:pt x="743" y="99"/>
                    </a:lnTo>
                    <a:lnTo>
                      <a:pt x="750" y="114"/>
                    </a:lnTo>
                    <a:lnTo>
                      <a:pt x="757" y="130"/>
                    </a:lnTo>
                    <a:lnTo>
                      <a:pt x="764" y="147"/>
                    </a:lnTo>
                    <a:lnTo>
                      <a:pt x="770" y="164"/>
                    </a:lnTo>
                    <a:lnTo>
                      <a:pt x="776" y="182"/>
                    </a:lnTo>
                    <a:lnTo>
                      <a:pt x="781" y="200"/>
                    </a:lnTo>
                    <a:lnTo>
                      <a:pt x="785" y="219"/>
                    </a:lnTo>
                    <a:lnTo>
                      <a:pt x="789" y="238"/>
                    </a:lnTo>
                    <a:lnTo>
                      <a:pt x="791" y="258"/>
                    </a:lnTo>
                    <a:lnTo>
                      <a:pt x="792" y="268"/>
                    </a:lnTo>
                    <a:lnTo>
                      <a:pt x="793" y="278"/>
                    </a:lnTo>
                    <a:lnTo>
                      <a:pt x="793" y="298"/>
                    </a:lnTo>
                    <a:lnTo>
                      <a:pt x="793" y="318"/>
                    </a:lnTo>
                    <a:lnTo>
                      <a:pt x="792" y="329"/>
                    </a:lnTo>
                    <a:lnTo>
                      <a:pt x="791" y="339"/>
                    </a:lnTo>
                    <a:lnTo>
                      <a:pt x="787" y="360"/>
                    </a:lnTo>
                    <a:lnTo>
                      <a:pt x="785" y="370"/>
                    </a:lnTo>
                    <a:lnTo>
                      <a:pt x="782" y="381"/>
                    </a:lnTo>
                    <a:lnTo>
                      <a:pt x="779" y="391"/>
                    </a:lnTo>
                    <a:lnTo>
                      <a:pt x="776" y="402"/>
                    </a:lnTo>
                    <a:lnTo>
                      <a:pt x="772" y="412"/>
                    </a:lnTo>
                    <a:lnTo>
                      <a:pt x="768" y="424"/>
                    </a:lnTo>
                    <a:lnTo>
                      <a:pt x="764" y="434"/>
                    </a:lnTo>
                    <a:lnTo>
                      <a:pt x="759" y="444"/>
                    </a:lnTo>
                    <a:lnTo>
                      <a:pt x="753" y="455"/>
                    </a:lnTo>
                    <a:lnTo>
                      <a:pt x="747" y="465"/>
                    </a:lnTo>
                    <a:lnTo>
                      <a:pt x="741" y="475"/>
                    </a:lnTo>
                    <a:lnTo>
                      <a:pt x="734" y="486"/>
                    </a:lnTo>
                    <a:lnTo>
                      <a:pt x="727" y="496"/>
                    </a:lnTo>
                    <a:lnTo>
                      <a:pt x="719" y="506"/>
                    </a:lnTo>
                    <a:lnTo>
                      <a:pt x="702" y="526"/>
                    </a:lnTo>
                    <a:lnTo>
                      <a:pt x="703" y="508"/>
                    </a:lnTo>
                    <a:lnTo>
                      <a:pt x="703" y="492"/>
                    </a:lnTo>
                    <a:lnTo>
                      <a:pt x="702" y="475"/>
                    </a:lnTo>
                    <a:lnTo>
                      <a:pt x="701" y="460"/>
                    </a:lnTo>
                    <a:lnTo>
                      <a:pt x="700" y="452"/>
                    </a:lnTo>
                    <a:lnTo>
                      <a:pt x="699" y="444"/>
                    </a:lnTo>
                    <a:lnTo>
                      <a:pt x="695" y="430"/>
                    </a:lnTo>
                    <a:lnTo>
                      <a:pt x="691" y="415"/>
                    </a:lnTo>
                    <a:lnTo>
                      <a:pt x="686" y="400"/>
                    </a:lnTo>
                    <a:lnTo>
                      <a:pt x="679" y="386"/>
                    </a:lnTo>
                    <a:lnTo>
                      <a:pt x="671" y="372"/>
                    </a:lnTo>
                    <a:lnTo>
                      <a:pt x="667" y="365"/>
                    </a:lnTo>
                    <a:lnTo>
                      <a:pt x="662" y="358"/>
                    </a:lnTo>
                    <a:lnTo>
                      <a:pt x="651" y="344"/>
                    </a:lnTo>
                    <a:lnTo>
                      <a:pt x="640" y="330"/>
                    </a:lnTo>
                    <a:lnTo>
                      <a:pt x="626" y="316"/>
                    </a:lnTo>
                    <a:lnTo>
                      <a:pt x="611" y="302"/>
                    </a:lnTo>
                    <a:lnTo>
                      <a:pt x="595" y="287"/>
                    </a:lnTo>
                    <a:lnTo>
                      <a:pt x="607" y="278"/>
                    </a:lnTo>
                    <a:lnTo>
                      <a:pt x="618" y="268"/>
                    </a:lnTo>
                    <a:lnTo>
                      <a:pt x="628" y="258"/>
                    </a:lnTo>
                    <a:lnTo>
                      <a:pt x="633" y="253"/>
                    </a:lnTo>
                    <a:lnTo>
                      <a:pt x="637" y="248"/>
                    </a:lnTo>
                    <a:lnTo>
                      <a:pt x="645" y="238"/>
                    </a:lnTo>
                    <a:lnTo>
                      <a:pt x="653" y="228"/>
                    </a:lnTo>
                    <a:lnTo>
                      <a:pt x="659" y="218"/>
                    </a:lnTo>
                    <a:lnTo>
                      <a:pt x="665" y="208"/>
                    </a:lnTo>
                    <a:lnTo>
                      <a:pt x="670" y="198"/>
                    </a:lnTo>
                    <a:lnTo>
                      <a:pt x="674" y="187"/>
                    </a:lnTo>
                    <a:lnTo>
                      <a:pt x="677" y="177"/>
                    </a:lnTo>
                    <a:lnTo>
                      <a:pt x="680" y="167"/>
                    </a:lnTo>
                    <a:lnTo>
                      <a:pt x="682" y="157"/>
                    </a:lnTo>
                    <a:lnTo>
                      <a:pt x="684" y="147"/>
                    </a:lnTo>
                    <a:lnTo>
                      <a:pt x="685" y="137"/>
                    </a:lnTo>
                    <a:lnTo>
                      <a:pt x="686" y="127"/>
                    </a:lnTo>
                    <a:lnTo>
                      <a:pt x="686" y="117"/>
                    </a:lnTo>
                    <a:lnTo>
                      <a:pt x="686" y="107"/>
                    </a:lnTo>
                    <a:lnTo>
                      <a:pt x="686" y="98"/>
                    </a:lnTo>
                    <a:lnTo>
                      <a:pt x="685" y="88"/>
                    </a:lnTo>
                    <a:lnTo>
                      <a:pt x="684" y="79"/>
                    </a:lnTo>
                    <a:lnTo>
                      <a:pt x="683" y="71"/>
                    </a:lnTo>
                    <a:lnTo>
                      <a:pt x="680" y="54"/>
                    </a:lnTo>
                    <a:lnTo>
                      <a:pt x="677" y="38"/>
                    </a:lnTo>
                    <a:lnTo>
                      <a:pt x="673" y="24"/>
                    </a:lnTo>
                    <a:lnTo>
                      <a:pt x="671" y="11"/>
                    </a:lnTo>
                    <a:lnTo>
                      <a:pt x="668" y="0"/>
                    </a:lnTo>
                    <a:close/>
                    <a:moveTo>
                      <a:pt x="578" y="488"/>
                    </a:moveTo>
                    <a:lnTo>
                      <a:pt x="578" y="481"/>
                    </a:lnTo>
                    <a:lnTo>
                      <a:pt x="577" y="473"/>
                    </a:lnTo>
                    <a:lnTo>
                      <a:pt x="574" y="459"/>
                    </a:lnTo>
                    <a:lnTo>
                      <a:pt x="571" y="452"/>
                    </a:lnTo>
                    <a:lnTo>
                      <a:pt x="569" y="445"/>
                    </a:lnTo>
                    <a:lnTo>
                      <a:pt x="566" y="439"/>
                    </a:lnTo>
                    <a:lnTo>
                      <a:pt x="562" y="432"/>
                    </a:lnTo>
                    <a:lnTo>
                      <a:pt x="559" y="426"/>
                    </a:lnTo>
                    <a:lnTo>
                      <a:pt x="554" y="420"/>
                    </a:lnTo>
                    <a:lnTo>
                      <a:pt x="550" y="412"/>
                    </a:lnTo>
                    <a:lnTo>
                      <a:pt x="545" y="407"/>
                    </a:lnTo>
                    <a:lnTo>
                      <a:pt x="539" y="401"/>
                    </a:lnTo>
                    <a:lnTo>
                      <a:pt x="533" y="395"/>
                    </a:lnTo>
                    <a:lnTo>
                      <a:pt x="527" y="390"/>
                    </a:lnTo>
                    <a:lnTo>
                      <a:pt x="521" y="384"/>
                    </a:lnTo>
                    <a:lnTo>
                      <a:pt x="514" y="379"/>
                    </a:lnTo>
                    <a:lnTo>
                      <a:pt x="507" y="374"/>
                    </a:lnTo>
                    <a:lnTo>
                      <a:pt x="491" y="365"/>
                    </a:lnTo>
                    <a:lnTo>
                      <a:pt x="483" y="361"/>
                    </a:lnTo>
                    <a:lnTo>
                      <a:pt x="474" y="357"/>
                    </a:lnTo>
                    <a:lnTo>
                      <a:pt x="454" y="350"/>
                    </a:lnTo>
                    <a:lnTo>
                      <a:pt x="435" y="343"/>
                    </a:lnTo>
                    <a:lnTo>
                      <a:pt x="414" y="338"/>
                    </a:lnTo>
                    <a:lnTo>
                      <a:pt x="403" y="335"/>
                    </a:lnTo>
                    <a:lnTo>
                      <a:pt x="391" y="333"/>
                    </a:lnTo>
                    <a:lnTo>
                      <a:pt x="368" y="330"/>
                    </a:lnTo>
                    <a:lnTo>
                      <a:pt x="351" y="329"/>
                    </a:lnTo>
                    <a:lnTo>
                      <a:pt x="332" y="329"/>
                    </a:lnTo>
                    <a:lnTo>
                      <a:pt x="321" y="329"/>
                    </a:lnTo>
                    <a:lnTo>
                      <a:pt x="310" y="330"/>
                    </a:lnTo>
                    <a:lnTo>
                      <a:pt x="299" y="331"/>
                    </a:lnTo>
                    <a:lnTo>
                      <a:pt x="287" y="332"/>
                    </a:lnTo>
                    <a:lnTo>
                      <a:pt x="262" y="336"/>
                    </a:lnTo>
                    <a:lnTo>
                      <a:pt x="237" y="341"/>
                    </a:lnTo>
                    <a:lnTo>
                      <a:pt x="210" y="347"/>
                    </a:lnTo>
                    <a:lnTo>
                      <a:pt x="184" y="354"/>
                    </a:lnTo>
                    <a:lnTo>
                      <a:pt x="157" y="363"/>
                    </a:lnTo>
                    <a:lnTo>
                      <a:pt x="144" y="367"/>
                    </a:lnTo>
                    <a:lnTo>
                      <a:pt x="131" y="372"/>
                    </a:lnTo>
                    <a:lnTo>
                      <a:pt x="105" y="384"/>
                    </a:lnTo>
                    <a:lnTo>
                      <a:pt x="81" y="396"/>
                    </a:lnTo>
                    <a:lnTo>
                      <a:pt x="69" y="403"/>
                    </a:lnTo>
                    <a:lnTo>
                      <a:pt x="57" y="409"/>
                    </a:lnTo>
                    <a:lnTo>
                      <a:pt x="47" y="418"/>
                    </a:lnTo>
                    <a:lnTo>
                      <a:pt x="36" y="425"/>
                    </a:lnTo>
                    <a:lnTo>
                      <a:pt x="26" y="433"/>
                    </a:lnTo>
                    <a:lnTo>
                      <a:pt x="17" y="442"/>
                    </a:lnTo>
                    <a:lnTo>
                      <a:pt x="8" y="450"/>
                    </a:lnTo>
                    <a:lnTo>
                      <a:pt x="0" y="459"/>
                    </a:lnTo>
                    <a:lnTo>
                      <a:pt x="7" y="472"/>
                    </a:lnTo>
                    <a:lnTo>
                      <a:pt x="11" y="478"/>
                    </a:lnTo>
                    <a:lnTo>
                      <a:pt x="15" y="484"/>
                    </a:lnTo>
                    <a:lnTo>
                      <a:pt x="25" y="497"/>
                    </a:lnTo>
                    <a:lnTo>
                      <a:pt x="35" y="508"/>
                    </a:lnTo>
                    <a:lnTo>
                      <a:pt x="47" y="520"/>
                    </a:lnTo>
                    <a:lnTo>
                      <a:pt x="53" y="526"/>
                    </a:lnTo>
                    <a:lnTo>
                      <a:pt x="59" y="531"/>
                    </a:lnTo>
                    <a:lnTo>
                      <a:pt x="73" y="543"/>
                    </a:lnTo>
                    <a:lnTo>
                      <a:pt x="87" y="553"/>
                    </a:lnTo>
                    <a:lnTo>
                      <a:pt x="101" y="563"/>
                    </a:lnTo>
                    <a:lnTo>
                      <a:pt x="117" y="573"/>
                    </a:lnTo>
                    <a:lnTo>
                      <a:pt x="133" y="583"/>
                    </a:lnTo>
                    <a:lnTo>
                      <a:pt x="150" y="592"/>
                    </a:lnTo>
                    <a:lnTo>
                      <a:pt x="167" y="600"/>
                    </a:lnTo>
                    <a:lnTo>
                      <a:pt x="184" y="608"/>
                    </a:lnTo>
                    <a:lnTo>
                      <a:pt x="202" y="616"/>
                    </a:lnTo>
                    <a:lnTo>
                      <a:pt x="221" y="622"/>
                    </a:lnTo>
                    <a:lnTo>
                      <a:pt x="239" y="629"/>
                    </a:lnTo>
                    <a:lnTo>
                      <a:pt x="258" y="634"/>
                    </a:lnTo>
                    <a:lnTo>
                      <a:pt x="277" y="639"/>
                    </a:lnTo>
                    <a:lnTo>
                      <a:pt x="296" y="643"/>
                    </a:lnTo>
                    <a:lnTo>
                      <a:pt x="315" y="647"/>
                    </a:lnTo>
                    <a:lnTo>
                      <a:pt x="335" y="650"/>
                    </a:lnTo>
                    <a:lnTo>
                      <a:pt x="354" y="652"/>
                    </a:lnTo>
                    <a:lnTo>
                      <a:pt x="373" y="653"/>
                    </a:lnTo>
                    <a:lnTo>
                      <a:pt x="391" y="653"/>
                    </a:lnTo>
                    <a:lnTo>
                      <a:pt x="410" y="653"/>
                    </a:lnTo>
                    <a:lnTo>
                      <a:pt x="428" y="651"/>
                    </a:lnTo>
                    <a:lnTo>
                      <a:pt x="446" y="649"/>
                    </a:lnTo>
                    <a:lnTo>
                      <a:pt x="464" y="646"/>
                    </a:lnTo>
                    <a:lnTo>
                      <a:pt x="473" y="644"/>
                    </a:lnTo>
                    <a:lnTo>
                      <a:pt x="482" y="642"/>
                    </a:lnTo>
                    <a:lnTo>
                      <a:pt x="498" y="637"/>
                    </a:lnTo>
                    <a:lnTo>
                      <a:pt x="514" y="630"/>
                    </a:lnTo>
                    <a:lnTo>
                      <a:pt x="508" y="630"/>
                    </a:lnTo>
                    <a:lnTo>
                      <a:pt x="503" y="630"/>
                    </a:lnTo>
                    <a:lnTo>
                      <a:pt x="497" y="629"/>
                    </a:lnTo>
                    <a:lnTo>
                      <a:pt x="491" y="627"/>
                    </a:lnTo>
                    <a:lnTo>
                      <a:pt x="486" y="626"/>
                    </a:lnTo>
                    <a:lnTo>
                      <a:pt x="480" y="623"/>
                    </a:lnTo>
                    <a:lnTo>
                      <a:pt x="468" y="617"/>
                    </a:lnTo>
                    <a:lnTo>
                      <a:pt x="456" y="610"/>
                    </a:lnTo>
                    <a:lnTo>
                      <a:pt x="450" y="606"/>
                    </a:lnTo>
                    <a:lnTo>
                      <a:pt x="445" y="601"/>
                    </a:lnTo>
                    <a:lnTo>
                      <a:pt x="435" y="591"/>
                    </a:lnTo>
                    <a:lnTo>
                      <a:pt x="430" y="586"/>
                    </a:lnTo>
                    <a:lnTo>
                      <a:pt x="426" y="580"/>
                    </a:lnTo>
                    <a:lnTo>
                      <a:pt x="418" y="568"/>
                    </a:lnTo>
                    <a:lnTo>
                      <a:pt x="415" y="562"/>
                    </a:lnTo>
                    <a:lnTo>
                      <a:pt x="412" y="555"/>
                    </a:lnTo>
                    <a:lnTo>
                      <a:pt x="410" y="548"/>
                    </a:lnTo>
                    <a:lnTo>
                      <a:pt x="408" y="541"/>
                    </a:lnTo>
                    <a:lnTo>
                      <a:pt x="407" y="534"/>
                    </a:lnTo>
                    <a:lnTo>
                      <a:pt x="406" y="526"/>
                    </a:lnTo>
                    <a:lnTo>
                      <a:pt x="406" y="511"/>
                    </a:lnTo>
                    <a:lnTo>
                      <a:pt x="407" y="504"/>
                    </a:lnTo>
                    <a:lnTo>
                      <a:pt x="408" y="496"/>
                    </a:lnTo>
                    <a:lnTo>
                      <a:pt x="411" y="488"/>
                    </a:lnTo>
                    <a:lnTo>
                      <a:pt x="414" y="480"/>
                    </a:lnTo>
                    <a:lnTo>
                      <a:pt x="418" y="472"/>
                    </a:lnTo>
                    <a:lnTo>
                      <a:pt x="423" y="464"/>
                    </a:lnTo>
                    <a:lnTo>
                      <a:pt x="426" y="459"/>
                    </a:lnTo>
                    <a:lnTo>
                      <a:pt x="430" y="454"/>
                    </a:lnTo>
                    <a:lnTo>
                      <a:pt x="435" y="450"/>
                    </a:lnTo>
                    <a:lnTo>
                      <a:pt x="439" y="446"/>
                    </a:lnTo>
                    <a:lnTo>
                      <a:pt x="444" y="442"/>
                    </a:lnTo>
                    <a:lnTo>
                      <a:pt x="449" y="439"/>
                    </a:lnTo>
                    <a:lnTo>
                      <a:pt x="455" y="436"/>
                    </a:lnTo>
                    <a:lnTo>
                      <a:pt x="460" y="434"/>
                    </a:lnTo>
                    <a:lnTo>
                      <a:pt x="467" y="432"/>
                    </a:lnTo>
                    <a:lnTo>
                      <a:pt x="473" y="431"/>
                    </a:lnTo>
                    <a:lnTo>
                      <a:pt x="485" y="429"/>
                    </a:lnTo>
                    <a:lnTo>
                      <a:pt x="497" y="429"/>
                    </a:lnTo>
                    <a:lnTo>
                      <a:pt x="509" y="431"/>
                    </a:lnTo>
                    <a:lnTo>
                      <a:pt x="520" y="433"/>
                    </a:lnTo>
                    <a:lnTo>
                      <a:pt x="526" y="435"/>
                    </a:lnTo>
                    <a:lnTo>
                      <a:pt x="532" y="438"/>
                    </a:lnTo>
                    <a:lnTo>
                      <a:pt x="537" y="440"/>
                    </a:lnTo>
                    <a:lnTo>
                      <a:pt x="542" y="443"/>
                    </a:lnTo>
                    <a:lnTo>
                      <a:pt x="547" y="446"/>
                    </a:lnTo>
                    <a:lnTo>
                      <a:pt x="552" y="450"/>
                    </a:lnTo>
                    <a:lnTo>
                      <a:pt x="557" y="454"/>
                    </a:lnTo>
                    <a:lnTo>
                      <a:pt x="561" y="458"/>
                    </a:lnTo>
                    <a:lnTo>
                      <a:pt x="565" y="462"/>
                    </a:lnTo>
                    <a:lnTo>
                      <a:pt x="568" y="467"/>
                    </a:lnTo>
                    <a:lnTo>
                      <a:pt x="571" y="472"/>
                    </a:lnTo>
                    <a:lnTo>
                      <a:pt x="574" y="477"/>
                    </a:lnTo>
                    <a:lnTo>
                      <a:pt x="576" y="482"/>
                    </a:lnTo>
                    <a:lnTo>
                      <a:pt x="578" y="488"/>
                    </a:lnTo>
                    <a:close/>
                  </a:path>
                </a:pathLst>
              </a:custGeom>
              <a:solidFill>
                <a:srgbClr val="3d5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0" y="0"/>
              <a:ext cx="889920" cy="6858000"/>
              <a:chOff x="0" y="0"/>
              <a:chExt cx="889920" cy="685800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0"/>
                <a:ext cx="86976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78840" y="2514600"/>
                <a:ext cx="811080" cy="4169880"/>
                <a:chOff x="78840" y="2514600"/>
                <a:chExt cx="811080" cy="416988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90000" y="6426000"/>
                  <a:ext cx="385200" cy="258480"/>
                </a:xfrm>
                <a:custGeom>
                  <a:avLst/>
                  <a:gdLst/>
                  <a:ahLst/>
                  <a:rect l="l" t="t" r="r" b="b"/>
                  <a:pathLst>
                    <a:path w="475" h="331">
                      <a:moveTo>
                        <a:pt x="475" y="0"/>
                      </a:moveTo>
                      <a:lnTo>
                        <a:pt x="0" y="0"/>
                      </a:lnTo>
                      <a:lnTo>
                        <a:pt x="0" y="65"/>
                      </a:lnTo>
                      <a:lnTo>
                        <a:pt x="221" y="166"/>
                      </a:lnTo>
                      <a:lnTo>
                        <a:pt x="0" y="268"/>
                      </a:lnTo>
                      <a:lnTo>
                        <a:pt x="0" y="331"/>
                      </a:lnTo>
                      <a:lnTo>
                        <a:pt x="475" y="331"/>
                      </a:lnTo>
                      <a:lnTo>
                        <a:pt x="475" y="264"/>
                      </a:lnTo>
                      <a:lnTo>
                        <a:pt x="146" y="264"/>
                      </a:lnTo>
                      <a:lnTo>
                        <a:pt x="361" y="166"/>
                      </a:lnTo>
                      <a:lnTo>
                        <a:pt x="146" y="68"/>
                      </a:lnTo>
                      <a:lnTo>
                        <a:pt x="475" y="68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"/>
                <p:cNvGrpSpPr/>
                <p:nvPr/>
              </p:nvGrpSpPr>
              <p:grpSpPr>
                <a:xfrm>
                  <a:off x="78840" y="4475520"/>
                  <a:ext cx="402840" cy="1831320"/>
                  <a:chOff x="78840" y="4475520"/>
                  <a:chExt cx="402840" cy="1831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180720" y="6085800"/>
                    <a:ext cx="300960" cy="22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1" h="285">
                        <a:moveTo>
                          <a:pt x="364" y="0"/>
                        </a:moveTo>
                        <a:lnTo>
                          <a:pt x="340" y="7"/>
                        </a:lnTo>
                        <a:lnTo>
                          <a:pt x="328" y="10"/>
                        </a:lnTo>
                        <a:lnTo>
                          <a:pt x="316" y="13"/>
                        </a:lnTo>
                        <a:lnTo>
                          <a:pt x="290" y="17"/>
                        </a:lnTo>
                        <a:lnTo>
                          <a:pt x="266" y="18"/>
                        </a:lnTo>
                        <a:lnTo>
                          <a:pt x="117" y="18"/>
                        </a:lnTo>
                        <a:lnTo>
                          <a:pt x="105" y="18"/>
                        </a:lnTo>
                        <a:lnTo>
                          <a:pt x="93" y="20"/>
                        </a:lnTo>
                        <a:lnTo>
                          <a:pt x="82" y="23"/>
                        </a:lnTo>
                        <a:lnTo>
                          <a:pt x="72" y="27"/>
                        </a:lnTo>
                        <a:lnTo>
                          <a:pt x="61" y="32"/>
                        </a:lnTo>
                        <a:lnTo>
                          <a:pt x="51" y="38"/>
                        </a:lnTo>
                        <a:lnTo>
                          <a:pt x="42" y="44"/>
                        </a:lnTo>
                        <a:lnTo>
                          <a:pt x="34" y="51"/>
                        </a:lnTo>
                        <a:lnTo>
                          <a:pt x="27" y="60"/>
                        </a:lnTo>
                        <a:lnTo>
                          <a:pt x="19" y="69"/>
                        </a:lnTo>
                        <a:lnTo>
                          <a:pt x="13" y="80"/>
                        </a:lnTo>
                        <a:lnTo>
                          <a:pt x="9" y="90"/>
                        </a:lnTo>
                        <a:lnTo>
                          <a:pt x="4" y="102"/>
                        </a:lnTo>
                        <a:lnTo>
                          <a:pt x="1" y="114"/>
                        </a:lnTo>
                        <a:lnTo>
                          <a:pt x="0" y="126"/>
                        </a:lnTo>
                        <a:lnTo>
                          <a:pt x="0" y="140"/>
                        </a:lnTo>
                        <a:lnTo>
                          <a:pt x="0" y="157"/>
                        </a:lnTo>
                        <a:lnTo>
                          <a:pt x="1" y="172"/>
                        </a:lnTo>
                        <a:lnTo>
                          <a:pt x="4" y="185"/>
                        </a:lnTo>
                        <a:lnTo>
                          <a:pt x="7" y="200"/>
                        </a:lnTo>
                        <a:lnTo>
                          <a:pt x="16" y="229"/>
                        </a:lnTo>
                        <a:lnTo>
                          <a:pt x="25" y="258"/>
                        </a:lnTo>
                        <a:lnTo>
                          <a:pt x="81" y="243"/>
                        </a:lnTo>
                        <a:lnTo>
                          <a:pt x="72" y="218"/>
                        </a:lnTo>
                        <a:lnTo>
                          <a:pt x="66" y="206"/>
                        </a:lnTo>
                        <a:lnTo>
                          <a:pt x="61" y="194"/>
                        </a:lnTo>
                        <a:lnTo>
                          <a:pt x="58" y="181"/>
                        </a:lnTo>
                        <a:lnTo>
                          <a:pt x="55" y="169"/>
                        </a:lnTo>
                        <a:lnTo>
                          <a:pt x="54" y="155"/>
                        </a:lnTo>
                        <a:lnTo>
                          <a:pt x="52" y="143"/>
                        </a:lnTo>
                        <a:lnTo>
                          <a:pt x="52" y="136"/>
                        </a:lnTo>
                        <a:lnTo>
                          <a:pt x="54" y="130"/>
                        </a:lnTo>
                        <a:lnTo>
                          <a:pt x="55" y="123"/>
                        </a:lnTo>
                        <a:lnTo>
                          <a:pt x="57" y="117"/>
                        </a:lnTo>
                        <a:lnTo>
                          <a:pt x="60" y="113"/>
                        </a:lnTo>
                        <a:lnTo>
                          <a:pt x="63" y="108"/>
                        </a:lnTo>
                        <a:lnTo>
                          <a:pt x="70" y="99"/>
                        </a:lnTo>
                        <a:lnTo>
                          <a:pt x="73" y="96"/>
                        </a:lnTo>
                        <a:lnTo>
                          <a:pt x="78" y="93"/>
                        </a:lnTo>
                        <a:lnTo>
                          <a:pt x="82" y="90"/>
                        </a:lnTo>
                        <a:lnTo>
                          <a:pt x="88" y="89"/>
                        </a:lnTo>
                        <a:lnTo>
                          <a:pt x="99" y="86"/>
                        </a:lnTo>
                        <a:lnTo>
                          <a:pt x="111" y="84"/>
                        </a:lnTo>
                        <a:lnTo>
                          <a:pt x="134" y="84"/>
                        </a:lnTo>
                        <a:lnTo>
                          <a:pt x="129" y="102"/>
                        </a:lnTo>
                        <a:lnTo>
                          <a:pt x="125" y="120"/>
                        </a:lnTo>
                        <a:lnTo>
                          <a:pt x="121" y="139"/>
                        </a:lnTo>
                        <a:lnTo>
                          <a:pt x="120" y="148"/>
                        </a:lnTo>
                        <a:lnTo>
                          <a:pt x="120" y="157"/>
                        </a:lnTo>
                        <a:lnTo>
                          <a:pt x="121" y="172"/>
                        </a:lnTo>
                        <a:lnTo>
                          <a:pt x="121" y="179"/>
                        </a:lnTo>
                        <a:lnTo>
                          <a:pt x="123" y="185"/>
                        </a:lnTo>
                        <a:lnTo>
                          <a:pt x="125" y="193"/>
                        </a:lnTo>
                        <a:lnTo>
                          <a:pt x="126" y="199"/>
                        </a:lnTo>
                        <a:lnTo>
                          <a:pt x="131" y="211"/>
                        </a:lnTo>
                        <a:lnTo>
                          <a:pt x="137" y="223"/>
                        </a:lnTo>
                        <a:lnTo>
                          <a:pt x="144" y="232"/>
                        </a:lnTo>
                        <a:lnTo>
                          <a:pt x="152" y="243"/>
                        </a:lnTo>
                        <a:lnTo>
                          <a:pt x="159" y="252"/>
                        </a:lnTo>
                        <a:lnTo>
                          <a:pt x="170" y="259"/>
                        </a:lnTo>
                        <a:lnTo>
                          <a:pt x="179" y="265"/>
                        </a:lnTo>
                        <a:lnTo>
                          <a:pt x="185" y="268"/>
                        </a:lnTo>
                        <a:lnTo>
                          <a:pt x="191" y="271"/>
                        </a:lnTo>
                        <a:lnTo>
                          <a:pt x="201" y="276"/>
                        </a:lnTo>
                        <a:lnTo>
                          <a:pt x="213" y="280"/>
                        </a:lnTo>
                        <a:lnTo>
                          <a:pt x="225" y="283"/>
                        </a:lnTo>
                        <a:lnTo>
                          <a:pt x="237" y="285"/>
                        </a:lnTo>
                        <a:lnTo>
                          <a:pt x="251" y="285"/>
                        </a:lnTo>
                        <a:lnTo>
                          <a:pt x="263" y="285"/>
                        </a:lnTo>
                        <a:lnTo>
                          <a:pt x="275" y="283"/>
                        </a:lnTo>
                        <a:lnTo>
                          <a:pt x="286" y="280"/>
                        </a:lnTo>
                        <a:lnTo>
                          <a:pt x="296" y="277"/>
                        </a:lnTo>
                        <a:lnTo>
                          <a:pt x="307" y="273"/>
                        </a:lnTo>
                        <a:lnTo>
                          <a:pt x="317" y="267"/>
                        </a:lnTo>
                        <a:lnTo>
                          <a:pt x="326" y="261"/>
                        </a:lnTo>
                        <a:lnTo>
                          <a:pt x="334" y="253"/>
                        </a:lnTo>
                        <a:lnTo>
                          <a:pt x="343" y="246"/>
                        </a:lnTo>
                        <a:lnTo>
                          <a:pt x="346" y="241"/>
                        </a:lnTo>
                        <a:lnTo>
                          <a:pt x="349" y="236"/>
                        </a:lnTo>
                        <a:lnTo>
                          <a:pt x="355" y="226"/>
                        </a:lnTo>
                        <a:lnTo>
                          <a:pt x="361" y="215"/>
                        </a:lnTo>
                        <a:lnTo>
                          <a:pt x="364" y="205"/>
                        </a:lnTo>
                        <a:lnTo>
                          <a:pt x="367" y="193"/>
                        </a:lnTo>
                        <a:lnTo>
                          <a:pt x="368" y="179"/>
                        </a:lnTo>
                        <a:lnTo>
                          <a:pt x="370" y="166"/>
                        </a:lnTo>
                        <a:lnTo>
                          <a:pt x="368" y="152"/>
                        </a:lnTo>
                        <a:lnTo>
                          <a:pt x="367" y="140"/>
                        </a:lnTo>
                        <a:lnTo>
                          <a:pt x="365" y="128"/>
                        </a:lnTo>
                        <a:lnTo>
                          <a:pt x="361" y="116"/>
                        </a:lnTo>
                        <a:lnTo>
                          <a:pt x="356" y="105"/>
                        </a:lnTo>
                        <a:lnTo>
                          <a:pt x="350" y="95"/>
                        </a:lnTo>
                        <a:lnTo>
                          <a:pt x="343" y="84"/>
                        </a:lnTo>
                        <a:lnTo>
                          <a:pt x="334" y="75"/>
                        </a:lnTo>
                        <a:lnTo>
                          <a:pt x="371" y="63"/>
                        </a:lnTo>
                        <a:lnTo>
                          <a:pt x="364" y="0"/>
                        </a:lnTo>
                        <a:close/>
                        <a:moveTo>
                          <a:pt x="263" y="84"/>
                        </a:moveTo>
                        <a:lnTo>
                          <a:pt x="281" y="101"/>
                        </a:lnTo>
                        <a:lnTo>
                          <a:pt x="290" y="108"/>
                        </a:lnTo>
                        <a:lnTo>
                          <a:pt x="299" y="117"/>
                        </a:lnTo>
                        <a:lnTo>
                          <a:pt x="305" y="128"/>
                        </a:lnTo>
                        <a:lnTo>
                          <a:pt x="308" y="134"/>
                        </a:lnTo>
                        <a:lnTo>
                          <a:pt x="311" y="140"/>
                        </a:lnTo>
                        <a:lnTo>
                          <a:pt x="316" y="152"/>
                        </a:lnTo>
                        <a:lnTo>
                          <a:pt x="316" y="158"/>
                        </a:lnTo>
                        <a:lnTo>
                          <a:pt x="316" y="166"/>
                        </a:lnTo>
                        <a:lnTo>
                          <a:pt x="316" y="172"/>
                        </a:lnTo>
                        <a:lnTo>
                          <a:pt x="314" y="178"/>
                        </a:lnTo>
                        <a:lnTo>
                          <a:pt x="310" y="188"/>
                        </a:lnTo>
                        <a:lnTo>
                          <a:pt x="307" y="194"/>
                        </a:lnTo>
                        <a:lnTo>
                          <a:pt x="304" y="197"/>
                        </a:lnTo>
                        <a:lnTo>
                          <a:pt x="299" y="202"/>
                        </a:lnTo>
                        <a:lnTo>
                          <a:pt x="296" y="205"/>
                        </a:lnTo>
                        <a:lnTo>
                          <a:pt x="290" y="208"/>
                        </a:lnTo>
                        <a:lnTo>
                          <a:pt x="286" y="211"/>
                        </a:lnTo>
                        <a:lnTo>
                          <a:pt x="281" y="212"/>
                        </a:lnTo>
                        <a:lnTo>
                          <a:pt x="275" y="214"/>
                        </a:lnTo>
                        <a:lnTo>
                          <a:pt x="265" y="217"/>
                        </a:lnTo>
                        <a:lnTo>
                          <a:pt x="254" y="217"/>
                        </a:lnTo>
                        <a:lnTo>
                          <a:pt x="239" y="217"/>
                        </a:lnTo>
                        <a:lnTo>
                          <a:pt x="224" y="214"/>
                        </a:lnTo>
                        <a:lnTo>
                          <a:pt x="210" y="209"/>
                        </a:lnTo>
                        <a:lnTo>
                          <a:pt x="204" y="206"/>
                        </a:lnTo>
                        <a:lnTo>
                          <a:pt x="198" y="202"/>
                        </a:lnTo>
                        <a:lnTo>
                          <a:pt x="194" y="199"/>
                        </a:lnTo>
                        <a:lnTo>
                          <a:pt x="189" y="193"/>
                        </a:lnTo>
                        <a:lnTo>
                          <a:pt x="185" y="188"/>
                        </a:lnTo>
                        <a:lnTo>
                          <a:pt x="180" y="182"/>
                        </a:lnTo>
                        <a:lnTo>
                          <a:pt x="177" y="175"/>
                        </a:lnTo>
                        <a:lnTo>
                          <a:pt x="176" y="167"/>
                        </a:lnTo>
                        <a:lnTo>
                          <a:pt x="174" y="158"/>
                        </a:lnTo>
                        <a:lnTo>
                          <a:pt x="174" y="149"/>
                        </a:lnTo>
                        <a:lnTo>
                          <a:pt x="174" y="133"/>
                        </a:lnTo>
                        <a:lnTo>
                          <a:pt x="179" y="116"/>
                        </a:lnTo>
                        <a:lnTo>
                          <a:pt x="183" y="101"/>
                        </a:lnTo>
                        <a:lnTo>
                          <a:pt x="189" y="84"/>
                        </a:lnTo>
                        <a:lnTo>
                          <a:pt x="263" y="84"/>
                        </a:lnTo>
                        <a:close/>
                      </a:path>
                    </a:pathLst>
                  </a:custGeom>
                  <a:solidFill>
                    <a:srgbClr val="3d54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78840" y="4475520"/>
                    <a:ext cx="402480" cy="1492920"/>
                    <a:chOff x="78840" y="4475520"/>
                    <a:chExt cx="402480" cy="149292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180720" y="5734800"/>
                      <a:ext cx="29412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300">
                          <a:moveTo>
                            <a:pt x="362" y="0"/>
                          </a:moveTo>
                          <a:lnTo>
                            <a:pt x="114" y="0"/>
                          </a:lnTo>
                          <a:lnTo>
                            <a:pt x="103" y="1"/>
                          </a:lnTo>
                          <a:lnTo>
                            <a:pt x="93" y="1"/>
                          </a:lnTo>
                          <a:lnTo>
                            <a:pt x="82" y="3"/>
                          </a:lnTo>
                          <a:lnTo>
                            <a:pt x="73" y="6"/>
                          </a:lnTo>
                          <a:lnTo>
                            <a:pt x="67" y="7"/>
                          </a:lnTo>
                          <a:lnTo>
                            <a:pt x="63" y="9"/>
                          </a:lnTo>
                          <a:lnTo>
                            <a:pt x="54" y="13"/>
                          </a:lnTo>
                          <a:lnTo>
                            <a:pt x="45" y="18"/>
                          </a:lnTo>
                          <a:lnTo>
                            <a:pt x="36" y="24"/>
                          </a:lnTo>
                          <a:lnTo>
                            <a:pt x="28" y="30"/>
                          </a:lnTo>
                          <a:lnTo>
                            <a:pt x="21" y="38"/>
                          </a:lnTo>
                          <a:lnTo>
                            <a:pt x="15" y="45"/>
                          </a:lnTo>
                          <a:lnTo>
                            <a:pt x="9" y="54"/>
                          </a:lnTo>
                          <a:lnTo>
                            <a:pt x="6" y="63"/>
                          </a:lnTo>
                          <a:lnTo>
                            <a:pt x="1" y="75"/>
                          </a:lnTo>
                          <a:lnTo>
                            <a:pt x="0" y="86"/>
                          </a:lnTo>
                          <a:lnTo>
                            <a:pt x="0" y="99"/>
                          </a:lnTo>
                          <a:lnTo>
                            <a:pt x="0" y="117"/>
                          </a:lnTo>
                          <a:lnTo>
                            <a:pt x="1" y="126"/>
                          </a:lnTo>
                          <a:lnTo>
                            <a:pt x="4" y="136"/>
                          </a:lnTo>
                          <a:lnTo>
                            <a:pt x="6" y="143"/>
                          </a:lnTo>
                          <a:lnTo>
                            <a:pt x="9" y="152"/>
                          </a:lnTo>
                          <a:lnTo>
                            <a:pt x="12" y="161"/>
                          </a:lnTo>
                          <a:lnTo>
                            <a:pt x="16" y="169"/>
                          </a:lnTo>
                          <a:lnTo>
                            <a:pt x="25" y="184"/>
                          </a:lnTo>
                          <a:lnTo>
                            <a:pt x="30" y="191"/>
                          </a:lnTo>
                          <a:lnTo>
                            <a:pt x="34" y="199"/>
                          </a:lnTo>
                          <a:lnTo>
                            <a:pt x="46" y="211"/>
                          </a:lnTo>
                          <a:lnTo>
                            <a:pt x="58" y="223"/>
                          </a:lnTo>
                          <a:lnTo>
                            <a:pt x="6" y="233"/>
                          </a:lnTo>
                          <a:lnTo>
                            <a:pt x="6" y="300"/>
                          </a:lnTo>
                          <a:lnTo>
                            <a:pt x="28" y="294"/>
                          </a:lnTo>
                          <a:lnTo>
                            <a:pt x="51" y="289"/>
                          </a:lnTo>
                          <a:lnTo>
                            <a:pt x="72" y="286"/>
                          </a:lnTo>
                          <a:lnTo>
                            <a:pt x="94" y="285"/>
                          </a:lnTo>
                          <a:lnTo>
                            <a:pt x="117" y="282"/>
                          </a:lnTo>
                          <a:lnTo>
                            <a:pt x="138" y="282"/>
                          </a:lnTo>
                          <a:lnTo>
                            <a:pt x="161" y="280"/>
                          </a:lnTo>
                          <a:lnTo>
                            <a:pt x="183" y="280"/>
                          </a:lnTo>
                          <a:lnTo>
                            <a:pt x="362" y="280"/>
                          </a:lnTo>
                          <a:lnTo>
                            <a:pt x="362" y="214"/>
                          </a:lnTo>
                          <a:lnTo>
                            <a:pt x="213" y="214"/>
                          </a:lnTo>
                          <a:lnTo>
                            <a:pt x="203" y="212"/>
                          </a:lnTo>
                          <a:lnTo>
                            <a:pt x="194" y="212"/>
                          </a:lnTo>
                          <a:lnTo>
                            <a:pt x="173" y="211"/>
                          </a:lnTo>
                          <a:lnTo>
                            <a:pt x="153" y="206"/>
                          </a:lnTo>
                          <a:lnTo>
                            <a:pt x="132" y="202"/>
                          </a:lnTo>
                          <a:lnTo>
                            <a:pt x="123" y="197"/>
                          </a:lnTo>
                          <a:lnTo>
                            <a:pt x="112" y="193"/>
                          </a:lnTo>
                          <a:lnTo>
                            <a:pt x="103" y="188"/>
                          </a:lnTo>
                          <a:lnTo>
                            <a:pt x="96" y="182"/>
                          </a:lnTo>
                          <a:lnTo>
                            <a:pt x="87" y="176"/>
                          </a:lnTo>
                          <a:lnTo>
                            <a:pt x="79" y="169"/>
                          </a:lnTo>
                          <a:lnTo>
                            <a:pt x="73" y="161"/>
                          </a:lnTo>
                          <a:lnTo>
                            <a:pt x="66" y="152"/>
                          </a:lnTo>
                          <a:lnTo>
                            <a:pt x="63" y="148"/>
                          </a:lnTo>
                          <a:lnTo>
                            <a:pt x="61" y="142"/>
                          </a:lnTo>
                          <a:lnTo>
                            <a:pt x="58" y="137"/>
                          </a:lnTo>
                          <a:lnTo>
                            <a:pt x="57" y="131"/>
                          </a:lnTo>
                          <a:lnTo>
                            <a:pt x="54" y="119"/>
                          </a:lnTo>
                          <a:lnTo>
                            <a:pt x="52" y="107"/>
                          </a:lnTo>
                          <a:lnTo>
                            <a:pt x="52" y="101"/>
                          </a:lnTo>
                          <a:lnTo>
                            <a:pt x="54" y="95"/>
                          </a:lnTo>
                          <a:lnTo>
                            <a:pt x="57" y="89"/>
                          </a:lnTo>
                          <a:lnTo>
                            <a:pt x="58" y="84"/>
                          </a:lnTo>
                          <a:lnTo>
                            <a:pt x="63" y="81"/>
                          </a:lnTo>
                          <a:lnTo>
                            <a:pt x="66" y="78"/>
                          </a:lnTo>
                          <a:lnTo>
                            <a:pt x="75" y="72"/>
                          </a:lnTo>
                          <a:lnTo>
                            <a:pt x="85" y="69"/>
                          </a:lnTo>
                          <a:lnTo>
                            <a:pt x="96" y="68"/>
                          </a:lnTo>
                          <a:lnTo>
                            <a:pt x="106" y="68"/>
                          </a:lnTo>
                          <a:lnTo>
                            <a:pt x="117" y="68"/>
                          </a:lnTo>
                          <a:lnTo>
                            <a:pt x="362" y="68"/>
                          </a:lnTo>
                          <a:lnTo>
                            <a:pt x="362" y="0"/>
                          </a:lnTo>
                          <a:close/>
                        </a:path>
                      </a:pathLst>
                    </a:custGeom>
                    <a:solidFill>
                      <a:srgbClr val="3d54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180720" y="5396760"/>
                      <a:ext cx="30060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1" h="285">
                          <a:moveTo>
                            <a:pt x="364" y="0"/>
                          </a:moveTo>
                          <a:lnTo>
                            <a:pt x="340" y="8"/>
                          </a:lnTo>
                          <a:lnTo>
                            <a:pt x="328" y="11"/>
                          </a:lnTo>
                          <a:lnTo>
                            <a:pt x="316" y="14"/>
                          </a:lnTo>
                          <a:lnTo>
                            <a:pt x="290" y="17"/>
                          </a:lnTo>
                          <a:lnTo>
                            <a:pt x="266" y="19"/>
                          </a:lnTo>
                          <a:lnTo>
                            <a:pt x="117" y="19"/>
                          </a:lnTo>
                          <a:lnTo>
                            <a:pt x="105" y="19"/>
                          </a:lnTo>
                          <a:lnTo>
                            <a:pt x="93" y="20"/>
                          </a:lnTo>
                          <a:lnTo>
                            <a:pt x="82" y="23"/>
                          </a:lnTo>
                          <a:lnTo>
                            <a:pt x="72" y="28"/>
                          </a:lnTo>
                          <a:lnTo>
                            <a:pt x="61" y="32"/>
                          </a:lnTo>
                          <a:lnTo>
                            <a:pt x="51" y="38"/>
                          </a:lnTo>
                          <a:lnTo>
                            <a:pt x="42" y="44"/>
                          </a:lnTo>
                          <a:lnTo>
                            <a:pt x="34" y="53"/>
                          </a:lnTo>
                          <a:lnTo>
                            <a:pt x="27" y="61"/>
                          </a:lnTo>
                          <a:lnTo>
                            <a:pt x="19" y="70"/>
                          </a:lnTo>
                          <a:lnTo>
                            <a:pt x="13" y="80"/>
                          </a:lnTo>
                          <a:lnTo>
                            <a:pt x="9" y="91"/>
                          </a:lnTo>
                          <a:lnTo>
                            <a:pt x="4" y="103"/>
                          </a:lnTo>
                          <a:lnTo>
                            <a:pt x="1" y="115"/>
                          </a:lnTo>
                          <a:lnTo>
                            <a:pt x="0" y="129"/>
                          </a:lnTo>
                          <a:lnTo>
                            <a:pt x="0" y="141"/>
                          </a:lnTo>
                          <a:lnTo>
                            <a:pt x="0" y="157"/>
                          </a:lnTo>
                          <a:lnTo>
                            <a:pt x="1" y="172"/>
                          </a:lnTo>
                          <a:lnTo>
                            <a:pt x="4" y="187"/>
                          </a:lnTo>
                          <a:lnTo>
                            <a:pt x="7" y="201"/>
                          </a:lnTo>
                          <a:lnTo>
                            <a:pt x="16" y="230"/>
                          </a:lnTo>
                          <a:lnTo>
                            <a:pt x="25" y="258"/>
                          </a:lnTo>
                          <a:lnTo>
                            <a:pt x="81" y="243"/>
                          </a:lnTo>
                          <a:lnTo>
                            <a:pt x="72" y="219"/>
                          </a:lnTo>
                          <a:lnTo>
                            <a:pt x="66" y="207"/>
                          </a:lnTo>
                          <a:lnTo>
                            <a:pt x="61" y="195"/>
                          </a:lnTo>
                          <a:lnTo>
                            <a:pt x="58" y="181"/>
                          </a:lnTo>
                          <a:lnTo>
                            <a:pt x="55" y="169"/>
                          </a:lnTo>
                          <a:lnTo>
                            <a:pt x="54" y="156"/>
                          </a:lnTo>
                          <a:lnTo>
                            <a:pt x="52" y="144"/>
                          </a:lnTo>
                          <a:lnTo>
                            <a:pt x="52" y="136"/>
                          </a:lnTo>
                          <a:lnTo>
                            <a:pt x="54" y="130"/>
                          </a:lnTo>
                          <a:lnTo>
                            <a:pt x="55" y="124"/>
                          </a:lnTo>
                          <a:lnTo>
                            <a:pt x="57" y="118"/>
                          </a:lnTo>
                          <a:lnTo>
                            <a:pt x="60" y="113"/>
                          </a:lnTo>
                          <a:lnTo>
                            <a:pt x="63" y="109"/>
                          </a:lnTo>
                          <a:lnTo>
                            <a:pt x="70" y="100"/>
                          </a:lnTo>
                          <a:lnTo>
                            <a:pt x="73" y="97"/>
                          </a:lnTo>
                          <a:lnTo>
                            <a:pt x="78" y="94"/>
                          </a:lnTo>
                          <a:lnTo>
                            <a:pt x="82" y="91"/>
                          </a:lnTo>
                          <a:lnTo>
                            <a:pt x="88" y="89"/>
                          </a:lnTo>
                          <a:lnTo>
                            <a:pt x="99" y="86"/>
                          </a:lnTo>
                          <a:lnTo>
                            <a:pt x="111" y="85"/>
                          </a:lnTo>
                          <a:lnTo>
                            <a:pt x="134" y="85"/>
                          </a:lnTo>
                          <a:lnTo>
                            <a:pt x="129" y="103"/>
                          </a:lnTo>
                          <a:lnTo>
                            <a:pt x="125" y="121"/>
                          </a:lnTo>
                          <a:lnTo>
                            <a:pt x="121" y="139"/>
                          </a:lnTo>
                          <a:lnTo>
                            <a:pt x="120" y="148"/>
                          </a:lnTo>
                          <a:lnTo>
                            <a:pt x="120" y="157"/>
                          </a:lnTo>
                          <a:lnTo>
                            <a:pt x="121" y="172"/>
                          </a:lnTo>
                          <a:lnTo>
                            <a:pt x="121" y="180"/>
                          </a:lnTo>
                          <a:lnTo>
                            <a:pt x="123" y="186"/>
                          </a:lnTo>
                          <a:lnTo>
                            <a:pt x="125" y="193"/>
                          </a:lnTo>
                          <a:lnTo>
                            <a:pt x="126" y="199"/>
                          </a:lnTo>
                          <a:lnTo>
                            <a:pt x="131" y="211"/>
                          </a:lnTo>
                          <a:lnTo>
                            <a:pt x="137" y="223"/>
                          </a:lnTo>
                          <a:lnTo>
                            <a:pt x="144" y="234"/>
                          </a:lnTo>
                          <a:lnTo>
                            <a:pt x="152" y="243"/>
                          </a:lnTo>
                          <a:lnTo>
                            <a:pt x="159" y="252"/>
                          </a:lnTo>
                          <a:lnTo>
                            <a:pt x="170" y="260"/>
                          </a:lnTo>
                          <a:lnTo>
                            <a:pt x="179" y="266"/>
                          </a:lnTo>
                          <a:lnTo>
                            <a:pt x="185" y="269"/>
                          </a:lnTo>
                          <a:lnTo>
                            <a:pt x="191" y="272"/>
                          </a:lnTo>
                          <a:lnTo>
                            <a:pt x="201" y="276"/>
                          </a:lnTo>
                          <a:lnTo>
                            <a:pt x="213" y="281"/>
                          </a:lnTo>
                          <a:lnTo>
                            <a:pt x="225" y="284"/>
                          </a:lnTo>
                          <a:lnTo>
                            <a:pt x="237" y="285"/>
                          </a:lnTo>
                          <a:lnTo>
                            <a:pt x="251" y="285"/>
                          </a:lnTo>
                          <a:lnTo>
                            <a:pt x="263" y="285"/>
                          </a:lnTo>
                          <a:lnTo>
                            <a:pt x="275" y="284"/>
                          </a:lnTo>
                          <a:lnTo>
                            <a:pt x="286" y="281"/>
                          </a:lnTo>
                          <a:lnTo>
                            <a:pt x="296" y="278"/>
                          </a:lnTo>
                          <a:lnTo>
                            <a:pt x="307" y="273"/>
                          </a:lnTo>
                          <a:lnTo>
                            <a:pt x="317" y="267"/>
                          </a:lnTo>
                          <a:lnTo>
                            <a:pt x="326" y="261"/>
                          </a:lnTo>
                          <a:lnTo>
                            <a:pt x="334" y="254"/>
                          </a:lnTo>
                          <a:lnTo>
                            <a:pt x="343" y="246"/>
                          </a:lnTo>
                          <a:lnTo>
                            <a:pt x="346" y="242"/>
                          </a:lnTo>
                          <a:lnTo>
                            <a:pt x="349" y="237"/>
                          </a:lnTo>
                          <a:lnTo>
                            <a:pt x="355" y="228"/>
                          </a:lnTo>
                          <a:lnTo>
                            <a:pt x="361" y="216"/>
                          </a:lnTo>
                          <a:lnTo>
                            <a:pt x="364" y="205"/>
                          </a:lnTo>
                          <a:lnTo>
                            <a:pt x="367" y="193"/>
                          </a:lnTo>
                          <a:lnTo>
                            <a:pt x="368" y="180"/>
                          </a:lnTo>
                          <a:lnTo>
                            <a:pt x="370" y="166"/>
                          </a:lnTo>
                          <a:lnTo>
                            <a:pt x="368" y="153"/>
                          </a:lnTo>
                          <a:lnTo>
                            <a:pt x="367" y="141"/>
                          </a:lnTo>
                          <a:lnTo>
                            <a:pt x="365" y="129"/>
                          </a:lnTo>
                          <a:lnTo>
                            <a:pt x="361" y="117"/>
                          </a:lnTo>
                          <a:lnTo>
                            <a:pt x="356" y="106"/>
                          </a:lnTo>
                          <a:lnTo>
                            <a:pt x="350" y="95"/>
                          </a:lnTo>
                          <a:lnTo>
                            <a:pt x="343" y="85"/>
                          </a:lnTo>
                          <a:lnTo>
                            <a:pt x="334" y="76"/>
                          </a:lnTo>
                          <a:lnTo>
                            <a:pt x="371" y="64"/>
                          </a:lnTo>
                          <a:lnTo>
                            <a:pt x="364" y="0"/>
                          </a:lnTo>
                          <a:close/>
                          <a:moveTo>
                            <a:pt x="263" y="85"/>
                          </a:moveTo>
                          <a:lnTo>
                            <a:pt x="281" y="101"/>
                          </a:lnTo>
                          <a:lnTo>
                            <a:pt x="290" y="109"/>
                          </a:lnTo>
                          <a:lnTo>
                            <a:pt x="299" y="120"/>
                          </a:lnTo>
                          <a:lnTo>
                            <a:pt x="305" y="129"/>
                          </a:lnTo>
                          <a:lnTo>
                            <a:pt x="308" y="135"/>
                          </a:lnTo>
                          <a:lnTo>
                            <a:pt x="311" y="141"/>
                          </a:lnTo>
                          <a:lnTo>
                            <a:pt x="316" y="153"/>
                          </a:lnTo>
                          <a:lnTo>
                            <a:pt x="316" y="159"/>
                          </a:lnTo>
                          <a:lnTo>
                            <a:pt x="316" y="166"/>
                          </a:lnTo>
                          <a:lnTo>
                            <a:pt x="316" y="172"/>
                          </a:lnTo>
                          <a:lnTo>
                            <a:pt x="314" y="178"/>
                          </a:lnTo>
                          <a:lnTo>
                            <a:pt x="310" y="190"/>
                          </a:lnTo>
                          <a:lnTo>
                            <a:pt x="307" y="195"/>
                          </a:lnTo>
                          <a:lnTo>
                            <a:pt x="304" y="199"/>
                          </a:lnTo>
                          <a:lnTo>
                            <a:pt x="299" y="202"/>
                          </a:lnTo>
                          <a:lnTo>
                            <a:pt x="296" y="205"/>
                          </a:lnTo>
                          <a:lnTo>
                            <a:pt x="290" y="208"/>
                          </a:lnTo>
                          <a:lnTo>
                            <a:pt x="286" y="211"/>
                          </a:lnTo>
                          <a:lnTo>
                            <a:pt x="281" y="213"/>
                          </a:lnTo>
                          <a:lnTo>
                            <a:pt x="275" y="216"/>
                          </a:lnTo>
                          <a:lnTo>
                            <a:pt x="265" y="217"/>
                          </a:lnTo>
                          <a:lnTo>
                            <a:pt x="254" y="219"/>
                          </a:lnTo>
                          <a:lnTo>
                            <a:pt x="239" y="217"/>
                          </a:lnTo>
                          <a:lnTo>
                            <a:pt x="224" y="214"/>
                          </a:lnTo>
                          <a:lnTo>
                            <a:pt x="210" y="210"/>
                          </a:lnTo>
                          <a:lnTo>
                            <a:pt x="204" y="207"/>
                          </a:lnTo>
                          <a:lnTo>
                            <a:pt x="198" y="204"/>
                          </a:lnTo>
                          <a:lnTo>
                            <a:pt x="194" y="199"/>
                          </a:lnTo>
                          <a:lnTo>
                            <a:pt x="189" y="193"/>
                          </a:lnTo>
                          <a:lnTo>
                            <a:pt x="185" y="189"/>
                          </a:lnTo>
                          <a:lnTo>
                            <a:pt x="180" y="183"/>
                          </a:lnTo>
                          <a:lnTo>
                            <a:pt x="177" y="175"/>
                          </a:lnTo>
                          <a:lnTo>
                            <a:pt x="176" y="168"/>
                          </a:lnTo>
                          <a:lnTo>
                            <a:pt x="174" y="160"/>
                          </a:lnTo>
                          <a:lnTo>
                            <a:pt x="174" y="151"/>
                          </a:lnTo>
                          <a:lnTo>
                            <a:pt x="174" y="133"/>
                          </a:lnTo>
                          <a:lnTo>
                            <a:pt x="179" y="117"/>
                          </a:lnTo>
                          <a:lnTo>
                            <a:pt x="183" y="101"/>
                          </a:lnTo>
                          <a:lnTo>
                            <a:pt x="189" y="85"/>
                          </a:lnTo>
                          <a:lnTo>
                            <a:pt x="263" y="85"/>
                          </a:lnTo>
                          <a:close/>
                        </a:path>
                      </a:pathLst>
                    </a:custGeom>
                    <a:solidFill>
                      <a:srgbClr val="3d54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80720" y="5059800"/>
                      <a:ext cx="300600" cy="22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1" h="286">
                          <a:moveTo>
                            <a:pt x="364" y="0"/>
                          </a:moveTo>
                          <a:lnTo>
                            <a:pt x="340" y="9"/>
                          </a:lnTo>
                          <a:lnTo>
                            <a:pt x="328" y="12"/>
                          </a:lnTo>
                          <a:lnTo>
                            <a:pt x="316" y="14"/>
                          </a:lnTo>
                          <a:lnTo>
                            <a:pt x="290" y="18"/>
                          </a:lnTo>
                          <a:lnTo>
                            <a:pt x="266" y="18"/>
                          </a:lnTo>
                          <a:lnTo>
                            <a:pt x="117" y="18"/>
                          </a:lnTo>
                          <a:lnTo>
                            <a:pt x="105" y="20"/>
                          </a:lnTo>
                          <a:lnTo>
                            <a:pt x="93" y="21"/>
                          </a:lnTo>
                          <a:lnTo>
                            <a:pt x="82" y="24"/>
                          </a:lnTo>
                          <a:lnTo>
                            <a:pt x="72" y="27"/>
                          </a:lnTo>
                          <a:lnTo>
                            <a:pt x="61" y="33"/>
                          </a:lnTo>
                          <a:lnTo>
                            <a:pt x="51" y="39"/>
                          </a:lnTo>
                          <a:lnTo>
                            <a:pt x="42" y="45"/>
                          </a:lnTo>
                          <a:lnTo>
                            <a:pt x="34" y="53"/>
                          </a:lnTo>
                          <a:lnTo>
                            <a:pt x="27" y="62"/>
                          </a:lnTo>
                          <a:lnTo>
                            <a:pt x="19" y="71"/>
                          </a:lnTo>
                          <a:lnTo>
                            <a:pt x="13" y="81"/>
                          </a:lnTo>
                          <a:lnTo>
                            <a:pt x="9" y="92"/>
                          </a:lnTo>
                          <a:lnTo>
                            <a:pt x="4" y="104"/>
                          </a:lnTo>
                          <a:lnTo>
                            <a:pt x="1" y="116"/>
                          </a:lnTo>
                          <a:lnTo>
                            <a:pt x="0" y="128"/>
                          </a:lnTo>
                          <a:lnTo>
                            <a:pt x="0" y="142"/>
                          </a:lnTo>
                          <a:lnTo>
                            <a:pt x="0" y="157"/>
                          </a:lnTo>
                          <a:lnTo>
                            <a:pt x="1" y="172"/>
                          </a:lnTo>
                          <a:lnTo>
                            <a:pt x="4" y="187"/>
                          </a:lnTo>
                          <a:lnTo>
                            <a:pt x="7" y="202"/>
                          </a:lnTo>
                          <a:lnTo>
                            <a:pt x="16" y="231"/>
                          </a:lnTo>
                          <a:lnTo>
                            <a:pt x="25" y="259"/>
                          </a:lnTo>
                          <a:lnTo>
                            <a:pt x="81" y="244"/>
                          </a:lnTo>
                          <a:lnTo>
                            <a:pt x="72" y="220"/>
                          </a:lnTo>
                          <a:lnTo>
                            <a:pt x="66" y="208"/>
                          </a:lnTo>
                          <a:lnTo>
                            <a:pt x="61" y="194"/>
                          </a:lnTo>
                          <a:lnTo>
                            <a:pt x="58" y="182"/>
                          </a:lnTo>
                          <a:lnTo>
                            <a:pt x="55" y="170"/>
                          </a:lnTo>
                          <a:lnTo>
                            <a:pt x="54" y="157"/>
                          </a:lnTo>
                          <a:lnTo>
                            <a:pt x="52" y="145"/>
                          </a:lnTo>
                          <a:lnTo>
                            <a:pt x="52" y="137"/>
                          </a:lnTo>
                          <a:lnTo>
                            <a:pt x="54" y="131"/>
                          </a:lnTo>
                          <a:lnTo>
                            <a:pt x="55" y="125"/>
                          </a:lnTo>
                          <a:lnTo>
                            <a:pt x="57" y="119"/>
                          </a:lnTo>
                          <a:lnTo>
                            <a:pt x="60" y="115"/>
                          </a:lnTo>
                          <a:lnTo>
                            <a:pt x="63" y="109"/>
                          </a:lnTo>
                          <a:lnTo>
                            <a:pt x="70" y="101"/>
                          </a:lnTo>
                          <a:lnTo>
                            <a:pt x="73" y="98"/>
                          </a:lnTo>
                          <a:lnTo>
                            <a:pt x="78" y="95"/>
                          </a:lnTo>
                          <a:lnTo>
                            <a:pt x="82" y="92"/>
                          </a:lnTo>
                          <a:lnTo>
                            <a:pt x="88" y="90"/>
                          </a:lnTo>
                          <a:lnTo>
                            <a:pt x="99" y="87"/>
                          </a:lnTo>
                          <a:lnTo>
                            <a:pt x="111" y="86"/>
                          </a:lnTo>
                          <a:lnTo>
                            <a:pt x="134" y="86"/>
                          </a:lnTo>
                          <a:lnTo>
                            <a:pt x="129" y="104"/>
                          </a:lnTo>
                          <a:lnTo>
                            <a:pt x="125" y="122"/>
                          </a:lnTo>
                          <a:lnTo>
                            <a:pt x="121" y="140"/>
                          </a:lnTo>
                          <a:lnTo>
                            <a:pt x="120" y="149"/>
                          </a:lnTo>
                          <a:lnTo>
                            <a:pt x="120" y="158"/>
                          </a:lnTo>
                          <a:lnTo>
                            <a:pt x="121" y="173"/>
                          </a:lnTo>
                          <a:lnTo>
                            <a:pt x="121" y="179"/>
                          </a:lnTo>
                          <a:lnTo>
                            <a:pt x="123" y="187"/>
                          </a:lnTo>
                          <a:lnTo>
                            <a:pt x="125" y="193"/>
                          </a:lnTo>
                          <a:lnTo>
                            <a:pt x="126" y="200"/>
                          </a:lnTo>
                          <a:lnTo>
                            <a:pt x="131" y="213"/>
                          </a:lnTo>
                          <a:lnTo>
                            <a:pt x="137" y="223"/>
                          </a:lnTo>
                          <a:lnTo>
                            <a:pt x="144" y="234"/>
                          </a:lnTo>
                          <a:lnTo>
                            <a:pt x="152" y="244"/>
                          </a:lnTo>
                          <a:lnTo>
                            <a:pt x="159" y="252"/>
                          </a:lnTo>
                          <a:lnTo>
                            <a:pt x="170" y="261"/>
                          </a:lnTo>
                          <a:lnTo>
                            <a:pt x="179" y="267"/>
                          </a:lnTo>
                          <a:lnTo>
                            <a:pt x="185" y="270"/>
                          </a:lnTo>
                          <a:lnTo>
                            <a:pt x="191" y="273"/>
                          </a:lnTo>
                          <a:lnTo>
                            <a:pt x="201" y="277"/>
                          </a:lnTo>
                          <a:lnTo>
                            <a:pt x="213" y="282"/>
                          </a:lnTo>
                          <a:lnTo>
                            <a:pt x="225" y="283"/>
                          </a:lnTo>
                          <a:lnTo>
                            <a:pt x="237" y="285"/>
                          </a:lnTo>
                          <a:lnTo>
                            <a:pt x="251" y="286"/>
                          </a:lnTo>
                          <a:lnTo>
                            <a:pt x="263" y="285"/>
                          </a:lnTo>
                          <a:lnTo>
                            <a:pt x="275" y="283"/>
                          </a:lnTo>
                          <a:lnTo>
                            <a:pt x="286" y="282"/>
                          </a:lnTo>
                          <a:lnTo>
                            <a:pt x="296" y="277"/>
                          </a:lnTo>
                          <a:lnTo>
                            <a:pt x="307" y="274"/>
                          </a:lnTo>
                          <a:lnTo>
                            <a:pt x="317" y="268"/>
                          </a:lnTo>
                          <a:lnTo>
                            <a:pt x="326" y="262"/>
                          </a:lnTo>
                          <a:lnTo>
                            <a:pt x="334" y="255"/>
                          </a:lnTo>
                          <a:lnTo>
                            <a:pt x="343" y="247"/>
                          </a:lnTo>
                          <a:lnTo>
                            <a:pt x="346" y="243"/>
                          </a:lnTo>
                          <a:lnTo>
                            <a:pt x="349" y="238"/>
                          </a:lnTo>
                          <a:lnTo>
                            <a:pt x="355" y="228"/>
                          </a:lnTo>
                          <a:lnTo>
                            <a:pt x="361" y="217"/>
                          </a:lnTo>
                          <a:lnTo>
                            <a:pt x="364" y="205"/>
                          </a:lnTo>
                          <a:lnTo>
                            <a:pt x="367" y="193"/>
                          </a:lnTo>
                          <a:lnTo>
                            <a:pt x="368" y="181"/>
                          </a:lnTo>
                          <a:lnTo>
                            <a:pt x="370" y="167"/>
                          </a:lnTo>
                          <a:lnTo>
                            <a:pt x="368" y="154"/>
                          </a:lnTo>
                          <a:lnTo>
                            <a:pt x="367" y="140"/>
                          </a:lnTo>
                          <a:lnTo>
                            <a:pt x="365" y="128"/>
                          </a:lnTo>
                          <a:lnTo>
                            <a:pt x="361" y="118"/>
                          </a:lnTo>
                          <a:lnTo>
                            <a:pt x="356" y="106"/>
                          </a:lnTo>
                          <a:lnTo>
                            <a:pt x="350" y="95"/>
                          </a:lnTo>
                          <a:lnTo>
                            <a:pt x="343" y="86"/>
                          </a:lnTo>
                          <a:lnTo>
                            <a:pt x="334" y="75"/>
                          </a:lnTo>
                          <a:lnTo>
                            <a:pt x="371" y="65"/>
                          </a:lnTo>
                          <a:lnTo>
                            <a:pt x="364" y="0"/>
                          </a:lnTo>
                          <a:close/>
                          <a:moveTo>
                            <a:pt x="263" y="86"/>
                          </a:moveTo>
                          <a:lnTo>
                            <a:pt x="281" y="101"/>
                          </a:lnTo>
                          <a:lnTo>
                            <a:pt x="290" y="110"/>
                          </a:lnTo>
                          <a:lnTo>
                            <a:pt x="299" y="119"/>
                          </a:lnTo>
                          <a:lnTo>
                            <a:pt x="305" y="130"/>
                          </a:lnTo>
                          <a:lnTo>
                            <a:pt x="308" y="136"/>
                          </a:lnTo>
                          <a:lnTo>
                            <a:pt x="311" y="140"/>
                          </a:lnTo>
                          <a:lnTo>
                            <a:pt x="316" y="152"/>
                          </a:lnTo>
                          <a:lnTo>
                            <a:pt x="316" y="160"/>
                          </a:lnTo>
                          <a:lnTo>
                            <a:pt x="316" y="167"/>
                          </a:lnTo>
                          <a:lnTo>
                            <a:pt x="316" y="173"/>
                          </a:lnTo>
                          <a:lnTo>
                            <a:pt x="314" y="179"/>
                          </a:lnTo>
                          <a:lnTo>
                            <a:pt x="310" y="190"/>
                          </a:lnTo>
                          <a:lnTo>
                            <a:pt x="307" y="194"/>
                          </a:lnTo>
                          <a:lnTo>
                            <a:pt x="304" y="199"/>
                          </a:lnTo>
                          <a:lnTo>
                            <a:pt x="299" y="203"/>
                          </a:lnTo>
                          <a:lnTo>
                            <a:pt x="296" y="206"/>
                          </a:lnTo>
                          <a:lnTo>
                            <a:pt x="290" y="209"/>
                          </a:lnTo>
                          <a:lnTo>
                            <a:pt x="286" y="213"/>
                          </a:lnTo>
                          <a:lnTo>
                            <a:pt x="281" y="214"/>
                          </a:lnTo>
                          <a:lnTo>
                            <a:pt x="275" y="216"/>
                          </a:lnTo>
                          <a:lnTo>
                            <a:pt x="265" y="219"/>
                          </a:lnTo>
                          <a:lnTo>
                            <a:pt x="254" y="219"/>
                          </a:lnTo>
                          <a:lnTo>
                            <a:pt x="239" y="219"/>
                          </a:lnTo>
                          <a:lnTo>
                            <a:pt x="224" y="216"/>
                          </a:lnTo>
                          <a:lnTo>
                            <a:pt x="210" y="211"/>
                          </a:lnTo>
                          <a:lnTo>
                            <a:pt x="204" y="208"/>
                          </a:lnTo>
                          <a:lnTo>
                            <a:pt x="198" y="203"/>
                          </a:lnTo>
                          <a:lnTo>
                            <a:pt x="194" y="199"/>
                          </a:lnTo>
                          <a:lnTo>
                            <a:pt x="189" y="194"/>
                          </a:lnTo>
                          <a:lnTo>
                            <a:pt x="185" y="188"/>
                          </a:lnTo>
                          <a:lnTo>
                            <a:pt x="180" y="182"/>
                          </a:lnTo>
                          <a:lnTo>
                            <a:pt x="177" y="176"/>
                          </a:lnTo>
                          <a:lnTo>
                            <a:pt x="176" y="169"/>
                          </a:lnTo>
                          <a:lnTo>
                            <a:pt x="174" y="160"/>
                          </a:lnTo>
                          <a:lnTo>
                            <a:pt x="174" y="151"/>
                          </a:lnTo>
                          <a:lnTo>
                            <a:pt x="174" y="134"/>
                          </a:lnTo>
                          <a:lnTo>
                            <a:pt x="179" y="118"/>
                          </a:lnTo>
                          <a:lnTo>
                            <a:pt x="183" y="101"/>
                          </a:lnTo>
                          <a:lnTo>
                            <a:pt x="189" y="86"/>
                          </a:lnTo>
                          <a:lnTo>
                            <a:pt x="263" y="86"/>
                          </a:lnTo>
                          <a:close/>
                        </a:path>
                      </a:pathLst>
                    </a:custGeom>
                    <a:solidFill>
                      <a:srgbClr val="3d54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78840" y="4691880"/>
                      <a:ext cx="396000" cy="24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320">
                          <a:moveTo>
                            <a:pt x="489" y="0"/>
                          </a:moveTo>
                          <a:lnTo>
                            <a:pt x="297" y="193"/>
                          </a:lnTo>
                          <a:lnTo>
                            <a:pt x="276" y="171"/>
                          </a:lnTo>
                          <a:lnTo>
                            <a:pt x="265" y="159"/>
                          </a:lnTo>
                          <a:lnTo>
                            <a:pt x="255" y="148"/>
                          </a:lnTo>
                          <a:lnTo>
                            <a:pt x="224" y="119"/>
                          </a:lnTo>
                          <a:lnTo>
                            <a:pt x="194" y="91"/>
                          </a:lnTo>
                          <a:lnTo>
                            <a:pt x="133" y="35"/>
                          </a:lnTo>
                          <a:lnTo>
                            <a:pt x="133" y="121"/>
                          </a:lnTo>
                          <a:lnTo>
                            <a:pt x="152" y="136"/>
                          </a:lnTo>
                          <a:lnTo>
                            <a:pt x="170" y="151"/>
                          </a:lnTo>
                          <a:lnTo>
                            <a:pt x="188" y="166"/>
                          </a:lnTo>
                          <a:lnTo>
                            <a:pt x="206" y="183"/>
                          </a:lnTo>
                          <a:lnTo>
                            <a:pt x="241" y="217"/>
                          </a:lnTo>
                          <a:lnTo>
                            <a:pt x="274" y="252"/>
                          </a:lnTo>
                          <a:lnTo>
                            <a:pt x="0" y="252"/>
                          </a:lnTo>
                          <a:lnTo>
                            <a:pt x="0" y="320"/>
                          </a:lnTo>
                          <a:lnTo>
                            <a:pt x="489" y="320"/>
                          </a:lnTo>
                          <a:lnTo>
                            <a:pt x="489" y="252"/>
                          </a:lnTo>
                          <a:lnTo>
                            <a:pt x="349" y="252"/>
                          </a:lnTo>
                          <a:lnTo>
                            <a:pt x="334" y="236"/>
                          </a:lnTo>
                          <a:lnTo>
                            <a:pt x="489" y="91"/>
                          </a:lnTo>
                          <a:lnTo>
                            <a:pt x="489" y="0"/>
                          </a:lnTo>
                          <a:close/>
                        </a:path>
                      </a:pathLst>
                    </a:custGeom>
                    <a:solidFill>
                      <a:srgbClr val="3d54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83520" y="4475520"/>
                      <a:ext cx="3913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3" h="190">
                          <a:moveTo>
                            <a:pt x="47" y="0"/>
                          </a:moveTo>
                          <a:lnTo>
                            <a:pt x="36" y="0"/>
                          </a:lnTo>
                          <a:lnTo>
                            <a:pt x="32" y="2"/>
                          </a:lnTo>
                          <a:lnTo>
                            <a:pt x="27" y="3"/>
                          </a:lnTo>
                          <a:lnTo>
                            <a:pt x="20" y="8"/>
                          </a:lnTo>
                          <a:lnTo>
                            <a:pt x="17" y="11"/>
                          </a:lnTo>
                          <a:lnTo>
                            <a:pt x="14" y="14"/>
                          </a:lnTo>
                          <a:lnTo>
                            <a:pt x="11" y="18"/>
                          </a:lnTo>
                          <a:lnTo>
                            <a:pt x="8" y="23"/>
                          </a:lnTo>
                          <a:lnTo>
                            <a:pt x="3" y="30"/>
                          </a:lnTo>
                          <a:lnTo>
                            <a:pt x="2" y="36"/>
                          </a:lnTo>
                          <a:lnTo>
                            <a:pt x="0" y="41"/>
                          </a:lnTo>
                          <a:lnTo>
                            <a:pt x="0" y="45"/>
                          </a:lnTo>
                          <a:lnTo>
                            <a:pt x="0" y="51"/>
                          </a:lnTo>
                          <a:lnTo>
                            <a:pt x="0" y="62"/>
                          </a:lnTo>
                          <a:lnTo>
                            <a:pt x="3" y="71"/>
                          </a:lnTo>
                          <a:lnTo>
                            <a:pt x="8" y="80"/>
                          </a:lnTo>
                          <a:lnTo>
                            <a:pt x="11" y="85"/>
                          </a:lnTo>
                          <a:lnTo>
                            <a:pt x="14" y="88"/>
                          </a:lnTo>
                          <a:lnTo>
                            <a:pt x="20" y="94"/>
                          </a:lnTo>
                          <a:lnTo>
                            <a:pt x="27" y="98"/>
                          </a:lnTo>
                          <a:lnTo>
                            <a:pt x="36" y="101"/>
                          </a:lnTo>
                          <a:lnTo>
                            <a:pt x="47" y="103"/>
                          </a:lnTo>
                          <a:lnTo>
                            <a:pt x="56" y="101"/>
                          </a:lnTo>
                          <a:lnTo>
                            <a:pt x="60" y="101"/>
                          </a:lnTo>
                          <a:lnTo>
                            <a:pt x="65" y="98"/>
                          </a:lnTo>
                          <a:lnTo>
                            <a:pt x="72" y="94"/>
                          </a:lnTo>
                          <a:lnTo>
                            <a:pt x="77" y="91"/>
                          </a:lnTo>
                          <a:lnTo>
                            <a:pt x="80" y="88"/>
                          </a:lnTo>
                          <a:lnTo>
                            <a:pt x="83" y="85"/>
                          </a:lnTo>
                          <a:lnTo>
                            <a:pt x="86" y="80"/>
                          </a:lnTo>
                          <a:lnTo>
                            <a:pt x="89" y="71"/>
                          </a:lnTo>
                          <a:lnTo>
                            <a:pt x="90" y="67"/>
                          </a:lnTo>
                          <a:lnTo>
                            <a:pt x="92" y="62"/>
                          </a:lnTo>
                          <a:lnTo>
                            <a:pt x="93" y="56"/>
                          </a:lnTo>
                          <a:lnTo>
                            <a:pt x="93" y="51"/>
                          </a:lnTo>
                          <a:lnTo>
                            <a:pt x="92" y="41"/>
                          </a:lnTo>
                          <a:lnTo>
                            <a:pt x="89" y="30"/>
                          </a:lnTo>
                          <a:lnTo>
                            <a:pt x="86" y="23"/>
                          </a:lnTo>
                          <a:lnTo>
                            <a:pt x="83" y="18"/>
                          </a:lnTo>
                          <a:lnTo>
                            <a:pt x="80" y="14"/>
                          </a:lnTo>
                          <a:lnTo>
                            <a:pt x="72" y="8"/>
                          </a:lnTo>
                          <a:lnTo>
                            <a:pt x="65" y="3"/>
                          </a:lnTo>
                          <a:lnTo>
                            <a:pt x="56" y="0"/>
                          </a:lnTo>
                          <a:lnTo>
                            <a:pt x="47" y="0"/>
                          </a:lnTo>
                          <a:close/>
                          <a:moveTo>
                            <a:pt x="483" y="15"/>
                          </a:moveTo>
                          <a:lnTo>
                            <a:pt x="127" y="15"/>
                          </a:lnTo>
                          <a:lnTo>
                            <a:pt x="127" y="190"/>
                          </a:lnTo>
                          <a:lnTo>
                            <a:pt x="181" y="190"/>
                          </a:lnTo>
                          <a:lnTo>
                            <a:pt x="181" y="83"/>
                          </a:lnTo>
                          <a:lnTo>
                            <a:pt x="483" y="83"/>
                          </a:lnTo>
                          <a:lnTo>
                            <a:pt x="483" y="15"/>
                          </a:lnTo>
                          <a:close/>
                        </a:path>
                      </a:pathLst>
                    </a:custGeom>
                    <a:solidFill>
                      <a:srgbClr val="3d54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9" name=""/>
                <p:cNvSpPr/>
                <p:nvPr/>
              </p:nvSpPr>
              <p:spPr>
                <a:xfrm>
                  <a:off x="498240" y="4187160"/>
                  <a:ext cx="387000" cy="267840"/>
                </a:xfrm>
                <a:custGeom>
                  <a:avLst/>
                  <a:gdLst/>
                  <a:ahLst/>
                  <a:rect l="l" t="t" r="r" b="b"/>
                  <a:pathLst>
                    <a:path w="479" h="345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336" y="94"/>
                      </a:lnTo>
                      <a:lnTo>
                        <a:pt x="115" y="171"/>
                      </a:lnTo>
                      <a:lnTo>
                        <a:pt x="336" y="248"/>
                      </a:lnTo>
                      <a:lnTo>
                        <a:pt x="0" y="274"/>
                      </a:lnTo>
                      <a:lnTo>
                        <a:pt x="0" y="345"/>
                      </a:lnTo>
                      <a:lnTo>
                        <a:pt x="479" y="301"/>
                      </a:lnTo>
                      <a:lnTo>
                        <a:pt x="479" y="232"/>
                      </a:lnTo>
                      <a:lnTo>
                        <a:pt x="295" y="171"/>
                      </a:lnTo>
                      <a:lnTo>
                        <a:pt x="479" y="113"/>
                      </a:lnTo>
                      <a:lnTo>
                        <a:pt x="479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86720" y="3844080"/>
                  <a:ext cx="394920" cy="216360"/>
                </a:xfrm>
                <a:custGeom>
                  <a:avLst/>
                  <a:gdLst/>
                  <a:ahLst/>
                  <a:rect l="l" t="t" r="r" b="b"/>
                  <a:pathLst>
                    <a:path w="489" h="278">
                      <a:moveTo>
                        <a:pt x="489" y="0"/>
                      </a:moveTo>
                      <a:lnTo>
                        <a:pt x="286" y="0"/>
                      </a:lnTo>
                      <a:lnTo>
                        <a:pt x="268" y="0"/>
                      </a:lnTo>
                      <a:lnTo>
                        <a:pt x="247" y="1"/>
                      </a:lnTo>
                      <a:lnTo>
                        <a:pt x="224" y="4"/>
                      </a:lnTo>
                      <a:lnTo>
                        <a:pt x="214" y="6"/>
                      </a:lnTo>
                      <a:lnTo>
                        <a:pt x="203" y="9"/>
                      </a:lnTo>
                      <a:lnTo>
                        <a:pt x="193" y="12"/>
                      </a:lnTo>
                      <a:lnTo>
                        <a:pt x="182" y="15"/>
                      </a:lnTo>
                      <a:lnTo>
                        <a:pt x="172" y="21"/>
                      </a:lnTo>
                      <a:lnTo>
                        <a:pt x="163" y="25"/>
                      </a:lnTo>
                      <a:lnTo>
                        <a:pt x="155" y="31"/>
                      </a:lnTo>
                      <a:lnTo>
                        <a:pt x="148" y="39"/>
                      </a:lnTo>
                      <a:lnTo>
                        <a:pt x="142" y="46"/>
                      </a:lnTo>
                      <a:lnTo>
                        <a:pt x="136" y="57"/>
                      </a:lnTo>
                      <a:lnTo>
                        <a:pt x="131" y="67"/>
                      </a:lnTo>
                      <a:lnTo>
                        <a:pt x="130" y="73"/>
                      </a:lnTo>
                      <a:lnTo>
                        <a:pt x="128" y="79"/>
                      </a:lnTo>
                      <a:lnTo>
                        <a:pt x="127" y="92"/>
                      </a:lnTo>
                      <a:lnTo>
                        <a:pt x="127" y="105"/>
                      </a:lnTo>
                      <a:lnTo>
                        <a:pt x="128" y="120"/>
                      </a:lnTo>
                      <a:lnTo>
                        <a:pt x="130" y="135"/>
                      </a:lnTo>
                      <a:lnTo>
                        <a:pt x="134" y="149"/>
                      </a:lnTo>
                      <a:lnTo>
                        <a:pt x="139" y="162"/>
                      </a:lnTo>
                      <a:lnTo>
                        <a:pt x="146" y="176"/>
                      </a:lnTo>
                      <a:lnTo>
                        <a:pt x="154" y="188"/>
                      </a:lnTo>
                      <a:lnTo>
                        <a:pt x="163" y="200"/>
                      </a:lnTo>
                      <a:lnTo>
                        <a:pt x="172" y="211"/>
                      </a:lnTo>
                      <a:lnTo>
                        <a:pt x="0" y="211"/>
                      </a:lnTo>
                      <a:lnTo>
                        <a:pt x="0" y="278"/>
                      </a:lnTo>
                      <a:lnTo>
                        <a:pt x="489" y="278"/>
                      </a:lnTo>
                      <a:lnTo>
                        <a:pt x="489" y="211"/>
                      </a:lnTo>
                      <a:lnTo>
                        <a:pt x="349" y="211"/>
                      </a:lnTo>
                      <a:lnTo>
                        <a:pt x="321" y="211"/>
                      </a:lnTo>
                      <a:lnTo>
                        <a:pt x="307" y="211"/>
                      </a:lnTo>
                      <a:lnTo>
                        <a:pt x="294" y="209"/>
                      </a:lnTo>
                      <a:lnTo>
                        <a:pt x="280" y="208"/>
                      </a:lnTo>
                      <a:lnTo>
                        <a:pt x="265" y="203"/>
                      </a:lnTo>
                      <a:lnTo>
                        <a:pt x="252" y="198"/>
                      </a:lnTo>
                      <a:lnTo>
                        <a:pt x="245" y="195"/>
                      </a:lnTo>
                      <a:lnTo>
                        <a:pt x="238" y="192"/>
                      </a:lnTo>
                      <a:lnTo>
                        <a:pt x="227" y="186"/>
                      </a:lnTo>
                      <a:lnTo>
                        <a:pt x="217" y="179"/>
                      </a:lnTo>
                      <a:lnTo>
                        <a:pt x="208" y="168"/>
                      </a:lnTo>
                      <a:lnTo>
                        <a:pt x="199" y="158"/>
                      </a:lnTo>
                      <a:lnTo>
                        <a:pt x="191" y="147"/>
                      </a:lnTo>
                      <a:lnTo>
                        <a:pt x="185" y="135"/>
                      </a:lnTo>
                      <a:lnTo>
                        <a:pt x="182" y="128"/>
                      </a:lnTo>
                      <a:lnTo>
                        <a:pt x="181" y="122"/>
                      </a:lnTo>
                      <a:lnTo>
                        <a:pt x="181" y="114"/>
                      </a:lnTo>
                      <a:lnTo>
                        <a:pt x="179" y="108"/>
                      </a:lnTo>
                      <a:lnTo>
                        <a:pt x="181" y="101"/>
                      </a:lnTo>
                      <a:lnTo>
                        <a:pt x="182" y="95"/>
                      </a:lnTo>
                      <a:lnTo>
                        <a:pt x="185" y="89"/>
                      </a:lnTo>
                      <a:lnTo>
                        <a:pt x="190" y="84"/>
                      </a:lnTo>
                      <a:lnTo>
                        <a:pt x="196" y="81"/>
                      </a:lnTo>
                      <a:lnTo>
                        <a:pt x="200" y="76"/>
                      </a:lnTo>
                      <a:lnTo>
                        <a:pt x="208" y="75"/>
                      </a:lnTo>
                      <a:lnTo>
                        <a:pt x="214" y="72"/>
                      </a:lnTo>
                      <a:lnTo>
                        <a:pt x="229" y="69"/>
                      </a:lnTo>
                      <a:lnTo>
                        <a:pt x="244" y="67"/>
                      </a:lnTo>
                      <a:lnTo>
                        <a:pt x="256" y="67"/>
                      </a:lnTo>
                      <a:lnTo>
                        <a:pt x="268" y="67"/>
                      </a:lnTo>
                      <a:lnTo>
                        <a:pt x="489" y="67"/>
                      </a:lnTo>
                      <a:lnTo>
                        <a:pt x="489" y="0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88960" y="3493440"/>
                  <a:ext cx="299520" cy="247680"/>
                </a:xfrm>
                <a:custGeom>
                  <a:avLst/>
                  <a:gdLst/>
                  <a:ahLst/>
                  <a:rect l="l" t="t" r="r" b="b"/>
                  <a:pathLst>
                    <a:path w="370" h="318">
                      <a:moveTo>
                        <a:pt x="204" y="0"/>
                      </a:moveTo>
                      <a:lnTo>
                        <a:pt x="171" y="0"/>
                      </a:lnTo>
                      <a:lnTo>
                        <a:pt x="158" y="0"/>
                      </a:lnTo>
                      <a:lnTo>
                        <a:pt x="143" y="1"/>
                      </a:lnTo>
                      <a:lnTo>
                        <a:pt x="129" y="4"/>
                      </a:lnTo>
                      <a:lnTo>
                        <a:pt x="114" y="7"/>
                      </a:lnTo>
                      <a:lnTo>
                        <a:pt x="102" y="12"/>
                      </a:lnTo>
                      <a:lnTo>
                        <a:pt x="91" y="16"/>
                      </a:lnTo>
                      <a:lnTo>
                        <a:pt x="79" y="21"/>
                      </a:lnTo>
                      <a:lnTo>
                        <a:pt x="69" y="27"/>
                      </a:lnTo>
                      <a:lnTo>
                        <a:pt x="58" y="33"/>
                      </a:lnTo>
                      <a:lnTo>
                        <a:pt x="49" y="40"/>
                      </a:lnTo>
                      <a:lnTo>
                        <a:pt x="40" y="48"/>
                      </a:lnTo>
                      <a:lnTo>
                        <a:pt x="33" y="57"/>
                      </a:lnTo>
                      <a:lnTo>
                        <a:pt x="25" y="66"/>
                      </a:lnTo>
                      <a:lnTo>
                        <a:pt x="19" y="76"/>
                      </a:lnTo>
                      <a:lnTo>
                        <a:pt x="13" y="87"/>
                      </a:lnTo>
                      <a:lnTo>
                        <a:pt x="9" y="98"/>
                      </a:lnTo>
                      <a:lnTo>
                        <a:pt x="4" y="110"/>
                      </a:lnTo>
                      <a:lnTo>
                        <a:pt x="3" y="123"/>
                      </a:lnTo>
                      <a:lnTo>
                        <a:pt x="0" y="137"/>
                      </a:lnTo>
                      <a:lnTo>
                        <a:pt x="0" y="152"/>
                      </a:lnTo>
                      <a:lnTo>
                        <a:pt x="0" y="162"/>
                      </a:lnTo>
                      <a:lnTo>
                        <a:pt x="1" y="173"/>
                      </a:lnTo>
                      <a:lnTo>
                        <a:pt x="4" y="192"/>
                      </a:lnTo>
                      <a:lnTo>
                        <a:pt x="9" y="211"/>
                      </a:lnTo>
                      <a:lnTo>
                        <a:pt x="12" y="218"/>
                      </a:lnTo>
                      <a:lnTo>
                        <a:pt x="16" y="227"/>
                      </a:lnTo>
                      <a:lnTo>
                        <a:pt x="19" y="235"/>
                      </a:lnTo>
                      <a:lnTo>
                        <a:pt x="24" y="242"/>
                      </a:lnTo>
                      <a:lnTo>
                        <a:pt x="30" y="248"/>
                      </a:lnTo>
                      <a:lnTo>
                        <a:pt x="34" y="256"/>
                      </a:lnTo>
                      <a:lnTo>
                        <a:pt x="46" y="268"/>
                      </a:lnTo>
                      <a:lnTo>
                        <a:pt x="58" y="278"/>
                      </a:lnTo>
                      <a:lnTo>
                        <a:pt x="72" y="287"/>
                      </a:lnTo>
                      <a:lnTo>
                        <a:pt x="87" y="296"/>
                      </a:lnTo>
                      <a:lnTo>
                        <a:pt x="94" y="299"/>
                      </a:lnTo>
                      <a:lnTo>
                        <a:pt x="102" y="302"/>
                      </a:lnTo>
                      <a:lnTo>
                        <a:pt x="118" y="308"/>
                      </a:lnTo>
                      <a:lnTo>
                        <a:pt x="135" y="313"/>
                      </a:lnTo>
                      <a:lnTo>
                        <a:pt x="152" y="316"/>
                      </a:lnTo>
                      <a:lnTo>
                        <a:pt x="170" y="318"/>
                      </a:lnTo>
                      <a:lnTo>
                        <a:pt x="188" y="318"/>
                      </a:lnTo>
                      <a:lnTo>
                        <a:pt x="204" y="318"/>
                      </a:lnTo>
                      <a:lnTo>
                        <a:pt x="213" y="316"/>
                      </a:lnTo>
                      <a:lnTo>
                        <a:pt x="222" y="316"/>
                      </a:lnTo>
                      <a:lnTo>
                        <a:pt x="239" y="313"/>
                      </a:lnTo>
                      <a:lnTo>
                        <a:pt x="256" y="308"/>
                      </a:lnTo>
                      <a:lnTo>
                        <a:pt x="271" y="302"/>
                      </a:lnTo>
                      <a:lnTo>
                        <a:pt x="286" y="296"/>
                      </a:lnTo>
                      <a:lnTo>
                        <a:pt x="293" y="293"/>
                      </a:lnTo>
                      <a:lnTo>
                        <a:pt x="301" y="289"/>
                      </a:lnTo>
                      <a:lnTo>
                        <a:pt x="314" y="280"/>
                      </a:lnTo>
                      <a:lnTo>
                        <a:pt x="326" y="269"/>
                      </a:lnTo>
                      <a:lnTo>
                        <a:pt x="337" y="257"/>
                      </a:lnTo>
                      <a:lnTo>
                        <a:pt x="346" y="244"/>
                      </a:lnTo>
                      <a:lnTo>
                        <a:pt x="355" y="229"/>
                      </a:lnTo>
                      <a:lnTo>
                        <a:pt x="361" y="212"/>
                      </a:lnTo>
                      <a:lnTo>
                        <a:pt x="365" y="194"/>
                      </a:lnTo>
                      <a:lnTo>
                        <a:pt x="368" y="185"/>
                      </a:lnTo>
                      <a:lnTo>
                        <a:pt x="368" y="176"/>
                      </a:lnTo>
                      <a:lnTo>
                        <a:pt x="370" y="165"/>
                      </a:lnTo>
                      <a:lnTo>
                        <a:pt x="370" y="155"/>
                      </a:lnTo>
                      <a:lnTo>
                        <a:pt x="370" y="134"/>
                      </a:lnTo>
                      <a:lnTo>
                        <a:pt x="368" y="123"/>
                      </a:lnTo>
                      <a:lnTo>
                        <a:pt x="367" y="114"/>
                      </a:lnTo>
                      <a:lnTo>
                        <a:pt x="364" y="95"/>
                      </a:lnTo>
                      <a:lnTo>
                        <a:pt x="359" y="75"/>
                      </a:lnTo>
                      <a:lnTo>
                        <a:pt x="356" y="66"/>
                      </a:lnTo>
                      <a:lnTo>
                        <a:pt x="353" y="55"/>
                      </a:lnTo>
                      <a:lnTo>
                        <a:pt x="347" y="37"/>
                      </a:lnTo>
                      <a:lnTo>
                        <a:pt x="332" y="0"/>
                      </a:lnTo>
                      <a:lnTo>
                        <a:pt x="278" y="30"/>
                      </a:lnTo>
                      <a:lnTo>
                        <a:pt x="292" y="57"/>
                      </a:lnTo>
                      <a:lnTo>
                        <a:pt x="299" y="72"/>
                      </a:lnTo>
                      <a:lnTo>
                        <a:pt x="305" y="87"/>
                      </a:lnTo>
                      <a:lnTo>
                        <a:pt x="310" y="102"/>
                      </a:lnTo>
                      <a:lnTo>
                        <a:pt x="314" y="119"/>
                      </a:lnTo>
                      <a:lnTo>
                        <a:pt x="316" y="134"/>
                      </a:lnTo>
                      <a:lnTo>
                        <a:pt x="317" y="143"/>
                      </a:lnTo>
                      <a:lnTo>
                        <a:pt x="317" y="150"/>
                      </a:lnTo>
                      <a:lnTo>
                        <a:pt x="316" y="164"/>
                      </a:lnTo>
                      <a:lnTo>
                        <a:pt x="314" y="176"/>
                      </a:lnTo>
                      <a:lnTo>
                        <a:pt x="311" y="186"/>
                      </a:lnTo>
                      <a:lnTo>
                        <a:pt x="308" y="197"/>
                      </a:lnTo>
                      <a:lnTo>
                        <a:pt x="302" y="206"/>
                      </a:lnTo>
                      <a:lnTo>
                        <a:pt x="299" y="209"/>
                      </a:lnTo>
                      <a:lnTo>
                        <a:pt x="296" y="214"/>
                      </a:lnTo>
                      <a:lnTo>
                        <a:pt x="290" y="221"/>
                      </a:lnTo>
                      <a:lnTo>
                        <a:pt x="283" y="227"/>
                      </a:lnTo>
                      <a:lnTo>
                        <a:pt x="275" y="232"/>
                      </a:lnTo>
                      <a:lnTo>
                        <a:pt x="266" y="236"/>
                      </a:lnTo>
                      <a:lnTo>
                        <a:pt x="256" y="241"/>
                      </a:lnTo>
                      <a:lnTo>
                        <a:pt x="247" y="244"/>
                      </a:lnTo>
                      <a:lnTo>
                        <a:pt x="236" y="247"/>
                      </a:lnTo>
                      <a:lnTo>
                        <a:pt x="225" y="248"/>
                      </a:lnTo>
                      <a:lnTo>
                        <a:pt x="215" y="250"/>
                      </a:lnTo>
                      <a:lnTo>
                        <a:pt x="204" y="251"/>
                      </a:lnTo>
                      <a:lnTo>
                        <a:pt x="204" y="0"/>
                      </a:lnTo>
                      <a:close/>
                      <a:moveTo>
                        <a:pt x="150" y="67"/>
                      </a:moveTo>
                      <a:lnTo>
                        <a:pt x="150" y="250"/>
                      </a:lnTo>
                      <a:lnTo>
                        <a:pt x="141" y="248"/>
                      </a:lnTo>
                      <a:lnTo>
                        <a:pt x="132" y="245"/>
                      </a:lnTo>
                      <a:lnTo>
                        <a:pt x="115" y="239"/>
                      </a:lnTo>
                      <a:lnTo>
                        <a:pt x="99" y="232"/>
                      </a:lnTo>
                      <a:lnTo>
                        <a:pt x="91" y="227"/>
                      </a:lnTo>
                      <a:lnTo>
                        <a:pt x="84" y="223"/>
                      </a:lnTo>
                      <a:lnTo>
                        <a:pt x="78" y="217"/>
                      </a:lnTo>
                      <a:lnTo>
                        <a:pt x="72" y="211"/>
                      </a:lnTo>
                      <a:lnTo>
                        <a:pt x="66" y="203"/>
                      </a:lnTo>
                      <a:lnTo>
                        <a:pt x="61" y="195"/>
                      </a:lnTo>
                      <a:lnTo>
                        <a:pt x="58" y="186"/>
                      </a:lnTo>
                      <a:lnTo>
                        <a:pt x="55" y="177"/>
                      </a:lnTo>
                      <a:lnTo>
                        <a:pt x="54" y="167"/>
                      </a:lnTo>
                      <a:lnTo>
                        <a:pt x="52" y="156"/>
                      </a:lnTo>
                      <a:lnTo>
                        <a:pt x="54" y="146"/>
                      </a:lnTo>
                      <a:lnTo>
                        <a:pt x="55" y="135"/>
                      </a:lnTo>
                      <a:lnTo>
                        <a:pt x="58" y="126"/>
                      </a:lnTo>
                      <a:lnTo>
                        <a:pt x="61" y="119"/>
                      </a:lnTo>
                      <a:lnTo>
                        <a:pt x="67" y="111"/>
                      </a:lnTo>
                      <a:lnTo>
                        <a:pt x="72" y="104"/>
                      </a:lnTo>
                      <a:lnTo>
                        <a:pt x="78" y="98"/>
                      </a:lnTo>
                      <a:lnTo>
                        <a:pt x="85" y="92"/>
                      </a:lnTo>
                      <a:lnTo>
                        <a:pt x="93" y="85"/>
                      </a:lnTo>
                      <a:lnTo>
                        <a:pt x="100" y="81"/>
                      </a:lnTo>
                      <a:lnTo>
                        <a:pt x="108" y="78"/>
                      </a:lnTo>
                      <a:lnTo>
                        <a:pt x="117" y="73"/>
                      </a:lnTo>
                      <a:lnTo>
                        <a:pt x="125" y="72"/>
                      </a:lnTo>
                      <a:lnTo>
                        <a:pt x="134" y="69"/>
                      </a:lnTo>
                      <a:lnTo>
                        <a:pt x="143" y="67"/>
                      </a:lnTo>
                      <a:lnTo>
                        <a:pt x="150" y="67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88960" y="3169080"/>
                  <a:ext cx="293040" cy="232200"/>
                </a:xfrm>
                <a:custGeom>
                  <a:avLst/>
                  <a:gdLst/>
                  <a:ahLst/>
                  <a:rect l="l" t="t" r="r" b="b"/>
                  <a:pathLst>
                    <a:path w="362" h="299">
                      <a:moveTo>
                        <a:pt x="362" y="0"/>
                      </a:moveTo>
                      <a:lnTo>
                        <a:pt x="114" y="0"/>
                      </a:lnTo>
                      <a:lnTo>
                        <a:pt x="105" y="0"/>
                      </a:lnTo>
                      <a:lnTo>
                        <a:pt x="94" y="2"/>
                      </a:lnTo>
                      <a:lnTo>
                        <a:pt x="84" y="3"/>
                      </a:lnTo>
                      <a:lnTo>
                        <a:pt x="73" y="6"/>
                      </a:lnTo>
                      <a:lnTo>
                        <a:pt x="69" y="8"/>
                      </a:lnTo>
                      <a:lnTo>
                        <a:pt x="63" y="9"/>
                      </a:lnTo>
                      <a:lnTo>
                        <a:pt x="54" y="12"/>
                      </a:lnTo>
                      <a:lnTo>
                        <a:pt x="45" y="18"/>
                      </a:lnTo>
                      <a:lnTo>
                        <a:pt x="36" y="23"/>
                      </a:lnTo>
                      <a:lnTo>
                        <a:pt x="28" y="30"/>
                      </a:lnTo>
                      <a:lnTo>
                        <a:pt x="22" y="36"/>
                      </a:lnTo>
                      <a:lnTo>
                        <a:pt x="15" y="45"/>
                      </a:lnTo>
                      <a:lnTo>
                        <a:pt x="10" y="54"/>
                      </a:lnTo>
                      <a:lnTo>
                        <a:pt x="6" y="64"/>
                      </a:lnTo>
                      <a:lnTo>
                        <a:pt x="3" y="74"/>
                      </a:lnTo>
                      <a:lnTo>
                        <a:pt x="1" y="86"/>
                      </a:lnTo>
                      <a:lnTo>
                        <a:pt x="0" y="98"/>
                      </a:lnTo>
                      <a:lnTo>
                        <a:pt x="1" y="116"/>
                      </a:lnTo>
                      <a:lnTo>
                        <a:pt x="3" y="125"/>
                      </a:lnTo>
                      <a:lnTo>
                        <a:pt x="4" y="134"/>
                      </a:lnTo>
                      <a:lnTo>
                        <a:pt x="7" y="143"/>
                      </a:lnTo>
                      <a:lnTo>
                        <a:pt x="9" y="152"/>
                      </a:lnTo>
                      <a:lnTo>
                        <a:pt x="13" y="160"/>
                      </a:lnTo>
                      <a:lnTo>
                        <a:pt x="16" y="169"/>
                      </a:lnTo>
                      <a:lnTo>
                        <a:pt x="25" y="184"/>
                      </a:lnTo>
                      <a:lnTo>
                        <a:pt x="30" y="192"/>
                      </a:lnTo>
                      <a:lnTo>
                        <a:pt x="36" y="198"/>
                      </a:lnTo>
                      <a:lnTo>
                        <a:pt x="46" y="211"/>
                      </a:lnTo>
                      <a:lnTo>
                        <a:pt x="60" y="223"/>
                      </a:lnTo>
                      <a:lnTo>
                        <a:pt x="7" y="234"/>
                      </a:lnTo>
                      <a:lnTo>
                        <a:pt x="7" y="299"/>
                      </a:lnTo>
                      <a:lnTo>
                        <a:pt x="28" y="294"/>
                      </a:lnTo>
                      <a:lnTo>
                        <a:pt x="51" y="290"/>
                      </a:lnTo>
                      <a:lnTo>
                        <a:pt x="73" y="287"/>
                      </a:lnTo>
                      <a:lnTo>
                        <a:pt x="94" y="284"/>
                      </a:lnTo>
                      <a:lnTo>
                        <a:pt x="117" y="282"/>
                      </a:lnTo>
                      <a:lnTo>
                        <a:pt x="140" y="280"/>
                      </a:lnTo>
                      <a:lnTo>
                        <a:pt x="162" y="280"/>
                      </a:lnTo>
                      <a:lnTo>
                        <a:pt x="183" y="280"/>
                      </a:lnTo>
                      <a:lnTo>
                        <a:pt x="362" y="280"/>
                      </a:lnTo>
                      <a:lnTo>
                        <a:pt x="362" y="213"/>
                      </a:lnTo>
                      <a:lnTo>
                        <a:pt x="213" y="213"/>
                      </a:lnTo>
                      <a:lnTo>
                        <a:pt x="204" y="213"/>
                      </a:lnTo>
                      <a:lnTo>
                        <a:pt x="194" y="213"/>
                      </a:lnTo>
                      <a:lnTo>
                        <a:pt x="174" y="210"/>
                      </a:lnTo>
                      <a:lnTo>
                        <a:pt x="153" y="207"/>
                      </a:lnTo>
                      <a:lnTo>
                        <a:pt x="134" y="201"/>
                      </a:lnTo>
                      <a:lnTo>
                        <a:pt x="123" y="198"/>
                      </a:lnTo>
                      <a:lnTo>
                        <a:pt x="114" y="193"/>
                      </a:lnTo>
                      <a:lnTo>
                        <a:pt x="105" y="189"/>
                      </a:lnTo>
                      <a:lnTo>
                        <a:pt x="96" y="183"/>
                      </a:lnTo>
                      <a:lnTo>
                        <a:pt x="88" y="177"/>
                      </a:lnTo>
                      <a:lnTo>
                        <a:pt x="81" y="169"/>
                      </a:lnTo>
                      <a:lnTo>
                        <a:pt x="73" y="161"/>
                      </a:lnTo>
                      <a:lnTo>
                        <a:pt x="67" y="152"/>
                      </a:lnTo>
                      <a:lnTo>
                        <a:pt x="64" y="148"/>
                      </a:lnTo>
                      <a:lnTo>
                        <a:pt x="61" y="142"/>
                      </a:lnTo>
                      <a:lnTo>
                        <a:pt x="58" y="136"/>
                      </a:lnTo>
                      <a:lnTo>
                        <a:pt x="57" y="131"/>
                      </a:lnTo>
                      <a:lnTo>
                        <a:pt x="54" y="119"/>
                      </a:lnTo>
                      <a:lnTo>
                        <a:pt x="52" y="107"/>
                      </a:lnTo>
                      <a:lnTo>
                        <a:pt x="54" y="100"/>
                      </a:lnTo>
                      <a:lnTo>
                        <a:pt x="55" y="94"/>
                      </a:lnTo>
                      <a:lnTo>
                        <a:pt x="57" y="89"/>
                      </a:lnTo>
                      <a:lnTo>
                        <a:pt x="60" y="85"/>
                      </a:lnTo>
                      <a:lnTo>
                        <a:pt x="63" y="80"/>
                      </a:lnTo>
                      <a:lnTo>
                        <a:pt x="67" y="77"/>
                      </a:lnTo>
                      <a:lnTo>
                        <a:pt x="76" y="73"/>
                      </a:lnTo>
                      <a:lnTo>
                        <a:pt x="85" y="70"/>
                      </a:lnTo>
                      <a:lnTo>
                        <a:pt x="97" y="68"/>
                      </a:lnTo>
                      <a:lnTo>
                        <a:pt x="108" y="68"/>
                      </a:lnTo>
                      <a:lnTo>
                        <a:pt x="118" y="68"/>
                      </a:lnTo>
                      <a:lnTo>
                        <a:pt x="362" y="68"/>
                      </a:lnTo>
                      <a:lnTo>
                        <a:pt x="362" y="0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95440" y="2826360"/>
                  <a:ext cx="293040" cy="233640"/>
                </a:xfrm>
                <a:custGeom>
                  <a:avLst/>
                  <a:gdLst/>
                  <a:ahLst/>
                  <a:rect l="l" t="t" r="r" b="b"/>
                  <a:pathLst>
                    <a:path w="363" h="298">
                      <a:moveTo>
                        <a:pt x="355" y="0"/>
                      </a:moveTo>
                      <a:lnTo>
                        <a:pt x="333" y="6"/>
                      </a:lnTo>
                      <a:lnTo>
                        <a:pt x="310" y="10"/>
                      </a:lnTo>
                      <a:lnTo>
                        <a:pt x="288" y="13"/>
                      </a:lnTo>
                      <a:lnTo>
                        <a:pt x="265" y="15"/>
                      </a:lnTo>
                      <a:lnTo>
                        <a:pt x="243" y="16"/>
                      </a:lnTo>
                      <a:lnTo>
                        <a:pt x="218" y="18"/>
                      </a:lnTo>
                      <a:lnTo>
                        <a:pt x="172" y="19"/>
                      </a:lnTo>
                      <a:lnTo>
                        <a:pt x="0" y="19"/>
                      </a:lnTo>
                      <a:lnTo>
                        <a:pt x="0" y="86"/>
                      </a:lnTo>
                      <a:lnTo>
                        <a:pt x="146" y="86"/>
                      </a:lnTo>
                      <a:lnTo>
                        <a:pt x="166" y="87"/>
                      </a:lnTo>
                      <a:lnTo>
                        <a:pt x="187" y="89"/>
                      </a:lnTo>
                      <a:lnTo>
                        <a:pt x="208" y="92"/>
                      </a:lnTo>
                      <a:lnTo>
                        <a:pt x="227" y="98"/>
                      </a:lnTo>
                      <a:lnTo>
                        <a:pt x="236" y="102"/>
                      </a:lnTo>
                      <a:lnTo>
                        <a:pt x="247" y="107"/>
                      </a:lnTo>
                      <a:lnTo>
                        <a:pt x="256" y="111"/>
                      </a:lnTo>
                      <a:lnTo>
                        <a:pt x="265" y="117"/>
                      </a:lnTo>
                      <a:lnTo>
                        <a:pt x="273" y="123"/>
                      </a:lnTo>
                      <a:lnTo>
                        <a:pt x="280" y="129"/>
                      </a:lnTo>
                      <a:lnTo>
                        <a:pt x="288" y="137"/>
                      </a:lnTo>
                      <a:lnTo>
                        <a:pt x="295" y="146"/>
                      </a:lnTo>
                      <a:lnTo>
                        <a:pt x="298" y="150"/>
                      </a:lnTo>
                      <a:lnTo>
                        <a:pt x="301" y="156"/>
                      </a:lnTo>
                      <a:lnTo>
                        <a:pt x="306" y="167"/>
                      </a:lnTo>
                      <a:lnTo>
                        <a:pt x="307" y="173"/>
                      </a:lnTo>
                      <a:lnTo>
                        <a:pt x="309" y="179"/>
                      </a:lnTo>
                      <a:lnTo>
                        <a:pt x="310" y="193"/>
                      </a:lnTo>
                      <a:lnTo>
                        <a:pt x="309" y="199"/>
                      </a:lnTo>
                      <a:lnTo>
                        <a:pt x="309" y="205"/>
                      </a:lnTo>
                      <a:lnTo>
                        <a:pt x="306" y="211"/>
                      </a:lnTo>
                      <a:lnTo>
                        <a:pt x="303" y="214"/>
                      </a:lnTo>
                      <a:lnTo>
                        <a:pt x="300" y="218"/>
                      </a:lnTo>
                      <a:lnTo>
                        <a:pt x="295" y="221"/>
                      </a:lnTo>
                      <a:lnTo>
                        <a:pt x="286" y="226"/>
                      </a:lnTo>
                      <a:lnTo>
                        <a:pt x="274" y="229"/>
                      </a:lnTo>
                      <a:lnTo>
                        <a:pt x="264" y="230"/>
                      </a:lnTo>
                      <a:lnTo>
                        <a:pt x="252" y="232"/>
                      </a:lnTo>
                      <a:lnTo>
                        <a:pt x="243" y="232"/>
                      </a:lnTo>
                      <a:lnTo>
                        <a:pt x="0" y="232"/>
                      </a:lnTo>
                      <a:lnTo>
                        <a:pt x="0" y="298"/>
                      </a:lnTo>
                      <a:lnTo>
                        <a:pt x="246" y="298"/>
                      </a:lnTo>
                      <a:lnTo>
                        <a:pt x="256" y="298"/>
                      </a:lnTo>
                      <a:lnTo>
                        <a:pt x="267" y="297"/>
                      </a:lnTo>
                      <a:lnTo>
                        <a:pt x="277" y="295"/>
                      </a:lnTo>
                      <a:lnTo>
                        <a:pt x="288" y="294"/>
                      </a:lnTo>
                      <a:lnTo>
                        <a:pt x="298" y="289"/>
                      </a:lnTo>
                      <a:lnTo>
                        <a:pt x="309" y="286"/>
                      </a:lnTo>
                      <a:lnTo>
                        <a:pt x="318" y="282"/>
                      </a:lnTo>
                      <a:lnTo>
                        <a:pt x="327" y="276"/>
                      </a:lnTo>
                      <a:lnTo>
                        <a:pt x="334" y="268"/>
                      </a:lnTo>
                      <a:lnTo>
                        <a:pt x="342" y="260"/>
                      </a:lnTo>
                      <a:lnTo>
                        <a:pt x="348" y="253"/>
                      </a:lnTo>
                      <a:lnTo>
                        <a:pt x="352" y="244"/>
                      </a:lnTo>
                      <a:lnTo>
                        <a:pt x="357" y="233"/>
                      </a:lnTo>
                      <a:lnTo>
                        <a:pt x="360" y="221"/>
                      </a:lnTo>
                      <a:lnTo>
                        <a:pt x="363" y="209"/>
                      </a:lnTo>
                      <a:lnTo>
                        <a:pt x="363" y="196"/>
                      </a:lnTo>
                      <a:lnTo>
                        <a:pt x="363" y="188"/>
                      </a:lnTo>
                      <a:lnTo>
                        <a:pt x="361" y="179"/>
                      </a:lnTo>
                      <a:lnTo>
                        <a:pt x="360" y="170"/>
                      </a:lnTo>
                      <a:lnTo>
                        <a:pt x="358" y="161"/>
                      </a:lnTo>
                      <a:lnTo>
                        <a:pt x="355" y="153"/>
                      </a:lnTo>
                      <a:lnTo>
                        <a:pt x="352" y="144"/>
                      </a:lnTo>
                      <a:lnTo>
                        <a:pt x="348" y="137"/>
                      </a:lnTo>
                      <a:lnTo>
                        <a:pt x="345" y="129"/>
                      </a:lnTo>
                      <a:lnTo>
                        <a:pt x="334" y="113"/>
                      </a:lnTo>
                      <a:lnTo>
                        <a:pt x="324" y="99"/>
                      </a:lnTo>
                      <a:lnTo>
                        <a:pt x="318" y="93"/>
                      </a:lnTo>
                      <a:lnTo>
                        <a:pt x="313" y="87"/>
                      </a:lnTo>
                      <a:lnTo>
                        <a:pt x="300" y="77"/>
                      </a:lnTo>
                      <a:lnTo>
                        <a:pt x="355" y="66"/>
                      </a:lnTo>
                      <a:lnTo>
                        <a:pt x="355" y="0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88960" y="2514600"/>
                  <a:ext cx="300960" cy="221040"/>
                </a:xfrm>
                <a:custGeom>
                  <a:avLst/>
                  <a:gdLst/>
                  <a:ahLst/>
                  <a:rect l="l" t="t" r="r" b="b"/>
                  <a:pathLst>
                    <a:path w="372" h="285">
                      <a:moveTo>
                        <a:pt x="364" y="0"/>
                      </a:moveTo>
                      <a:lnTo>
                        <a:pt x="340" y="8"/>
                      </a:lnTo>
                      <a:lnTo>
                        <a:pt x="328" y="11"/>
                      </a:lnTo>
                      <a:lnTo>
                        <a:pt x="316" y="14"/>
                      </a:lnTo>
                      <a:lnTo>
                        <a:pt x="292" y="17"/>
                      </a:lnTo>
                      <a:lnTo>
                        <a:pt x="266" y="18"/>
                      </a:lnTo>
                      <a:lnTo>
                        <a:pt x="117" y="18"/>
                      </a:lnTo>
                      <a:lnTo>
                        <a:pt x="105" y="18"/>
                      </a:lnTo>
                      <a:lnTo>
                        <a:pt x="94" y="20"/>
                      </a:lnTo>
                      <a:lnTo>
                        <a:pt x="82" y="23"/>
                      </a:lnTo>
                      <a:lnTo>
                        <a:pt x="72" y="27"/>
                      </a:lnTo>
                      <a:lnTo>
                        <a:pt x="61" y="32"/>
                      </a:lnTo>
                      <a:lnTo>
                        <a:pt x="52" y="38"/>
                      </a:lnTo>
                      <a:lnTo>
                        <a:pt x="43" y="44"/>
                      </a:lnTo>
                      <a:lnTo>
                        <a:pt x="34" y="53"/>
                      </a:lnTo>
                      <a:lnTo>
                        <a:pt x="27" y="60"/>
                      </a:lnTo>
                      <a:lnTo>
                        <a:pt x="21" y="69"/>
                      </a:lnTo>
                      <a:lnTo>
                        <a:pt x="15" y="80"/>
                      </a:lnTo>
                      <a:lnTo>
                        <a:pt x="9" y="90"/>
                      </a:lnTo>
                      <a:lnTo>
                        <a:pt x="6" y="102"/>
                      </a:lnTo>
                      <a:lnTo>
                        <a:pt x="3" y="115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0" y="157"/>
                      </a:lnTo>
                      <a:lnTo>
                        <a:pt x="3" y="172"/>
                      </a:lnTo>
                      <a:lnTo>
                        <a:pt x="4" y="187"/>
                      </a:lnTo>
                      <a:lnTo>
                        <a:pt x="7" y="200"/>
                      </a:lnTo>
                      <a:lnTo>
                        <a:pt x="16" y="229"/>
                      </a:lnTo>
                      <a:lnTo>
                        <a:pt x="27" y="258"/>
                      </a:lnTo>
                      <a:lnTo>
                        <a:pt x="81" y="243"/>
                      </a:lnTo>
                      <a:lnTo>
                        <a:pt x="72" y="218"/>
                      </a:lnTo>
                      <a:lnTo>
                        <a:pt x="67" y="206"/>
                      </a:lnTo>
                      <a:lnTo>
                        <a:pt x="63" y="194"/>
                      </a:lnTo>
                      <a:lnTo>
                        <a:pt x="58" y="182"/>
                      </a:lnTo>
                      <a:lnTo>
                        <a:pt x="55" y="169"/>
                      </a:lnTo>
                      <a:lnTo>
                        <a:pt x="54" y="157"/>
                      </a:lnTo>
                      <a:lnTo>
                        <a:pt x="52" y="143"/>
                      </a:lnTo>
                      <a:lnTo>
                        <a:pt x="54" y="136"/>
                      </a:lnTo>
                      <a:lnTo>
                        <a:pt x="54" y="130"/>
                      </a:lnTo>
                      <a:lnTo>
                        <a:pt x="55" y="124"/>
                      </a:lnTo>
                      <a:lnTo>
                        <a:pt x="58" y="118"/>
                      </a:lnTo>
                      <a:lnTo>
                        <a:pt x="60" y="113"/>
                      </a:lnTo>
                      <a:lnTo>
                        <a:pt x="63" y="108"/>
                      </a:lnTo>
                      <a:lnTo>
                        <a:pt x="70" y="99"/>
                      </a:lnTo>
                      <a:lnTo>
                        <a:pt x="75" y="96"/>
                      </a:lnTo>
                      <a:lnTo>
                        <a:pt x="79" y="93"/>
                      </a:lnTo>
                      <a:lnTo>
                        <a:pt x="84" y="90"/>
                      </a:lnTo>
                      <a:lnTo>
                        <a:pt x="88" y="89"/>
                      </a:lnTo>
                      <a:lnTo>
                        <a:pt x="99" y="86"/>
                      </a:lnTo>
                      <a:lnTo>
                        <a:pt x="111" y="84"/>
                      </a:lnTo>
                      <a:lnTo>
                        <a:pt x="135" y="84"/>
                      </a:lnTo>
                      <a:lnTo>
                        <a:pt x="129" y="102"/>
                      </a:lnTo>
                      <a:lnTo>
                        <a:pt x="125" y="121"/>
                      </a:lnTo>
                      <a:lnTo>
                        <a:pt x="122" y="139"/>
                      </a:lnTo>
                      <a:lnTo>
                        <a:pt x="122" y="148"/>
                      </a:lnTo>
                      <a:lnTo>
                        <a:pt x="122" y="157"/>
                      </a:lnTo>
                      <a:lnTo>
                        <a:pt x="122" y="172"/>
                      </a:lnTo>
                      <a:lnTo>
                        <a:pt x="123" y="179"/>
                      </a:lnTo>
                      <a:lnTo>
                        <a:pt x="125" y="185"/>
                      </a:lnTo>
                      <a:lnTo>
                        <a:pt x="126" y="193"/>
                      </a:lnTo>
                      <a:lnTo>
                        <a:pt x="128" y="199"/>
                      </a:lnTo>
                      <a:lnTo>
                        <a:pt x="132" y="211"/>
                      </a:lnTo>
                      <a:lnTo>
                        <a:pt x="138" y="223"/>
                      </a:lnTo>
                      <a:lnTo>
                        <a:pt x="144" y="234"/>
                      </a:lnTo>
                      <a:lnTo>
                        <a:pt x="152" y="243"/>
                      </a:lnTo>
                      <a:lnTo>
                        <a:pt x="161" y="252"/>
                      </a:lnTo>
                      <a:lnTo>
                        <a:pt x="170" y="259"/>
                      </a:lnTo>
                      <a:lnTo>
                        <a:pt x="180" y="265"/>
                      </a:lnTo>
                      <a:lnTo>
                        <a:pt x="185" y="268"/>
                      </a:lnTo>
                      <a:lnTo>
                        <a:pt x="191" y="271"/>
                      </a:lnTo>
                      <a:lnTo>
                        <a:pt x="201" y="276"/>
                      </a:lnTo>
                      <a:lnTo>
                        <a:pt x="213" y="280"/>
                      </a:lnTo>
                      <a:lnTo>
                        <a:pt x="225" y="283"/>
                      </a:lnTo>
                      <a:lnTo>
                        <a:pt x="239" y="285"/>
                      </a:lnTo>
                      <a:lnTo>
                        <a:pt x="251" y="285"/>
                      </a:lnTo>
                      <a:lnTo>
                        <a:pt x="263" y="285"/>
                      </a:lnTo>
                      <a:lnTo>
                        <a:pt x="275" y="283"/>
                      </a:lnTo>
                      <a:lnTo>
                        <a:pt x="287" y="280"/>
                      </a:lnTo>
                      <a:lnTo>
                        <a:pt x="298" y="277"/>
                      </a:lnTo>
                      <a:lnTo>
                        <a:pt x="308" y="273"/>
                      </a:lnTo>
                      <a:lnTo>
                        <a:pt x="317" y="267"/>
                      </a:lnTo>
                      <a:lnTo>
                        <a:pt x="326" y="261"/>
                      </a:lnTo>
                      <a:lnTo>
                        <a:pt x="335" y="253"/>
                      </a:lnTo>
                      <a:lnTo>
                        <a:pt x="343" y="246"/>
                      </a:lnTo>
                      <a:lnTo>
                        <a:pt x="346" y="241"/>
                      </a:lnTo>
                      <a:lnTo>
                        <a:pt x="350" y="237"/>
                      </a:lnTo>
                      <a:lnTo>
                        <a:pt x="356" y="228"/>
                      </a:lnTo>
                      <a:lnTo>
                        <a:pt x="361" y="215"/>
                      </a:lnTo>
                      <a:lnTo>
                        <a:pt x="365" y="205"/>
                      </a:lnTo>
                      <a:lnTo>
                        <a:pt x="368" y="193"/>
                      </a:lnTo>
                      <a:lnTo>
                        <a:pt x="370" y="179"/>
                      </a:lnTo>
                      <a:lnTo>
                        <a:pt x="370" y="166"/>
                      </a:lnTo>
                      <a:lnTo>
                        <a:pt x="370" y="152"/>
                      </a:lnTo>
                      <a:lnTo>
                        <a:pt x="368" y="140"/>
                      </a:lnTo>
                      <a:lnTo>
                        <a:pt x="365" y="128"/>
                      </a:lnTo>
                      <a:lnTo>
                        <a:pt x="361" y="116"/>
                      </a:lnTo>
                      <a:lnTo>
                        <a:pt x="356" y="105"/>
                      </a:lnTo>
                      <a:lnTo>
                        <a:pt x="350" y="95"/>
                      </a:lnTo>
                      <a:lnTo>
                        <a:pt x="343" y="84"/>
                      </a:lnTo>
                      <a:lnTo>
                        <a:pt x="335" y="75"/>
                      </a:lnTo>
                      <a:lnTo>
                        <a:pt x="372" y="63"/>
                      </a:lnTo>
                      <a:lnTo>
                        <a:pt x="364" y="0"/>
                      </a:lnTo>
                      <a:close/>
                      <a:moveTo>
                        <a:pt x="263" y="84"/>
                      </a:moveTo>
                      <a:lnTo>
                        <a:pt x="283" y="101"/>
                      </a:lnTo>
                      <a:lnTo>
                        <a:pt x="292" y="108"/>
                      </a:lnTo>
                      <a:lnTo>
                        <a:pt x="299" y="119"/>
                      </a:lnTo>
                      <a:lnTo>
                        <a:pt x="307" y="128"/>
                      </a:lnTo>
                      <a:lnTo>
                        <a:pt x="310" y="134"/>
                      </a:lnTo>
                      <a:lnTo>
                        <a:pt x="311" y="140"/>
                      </a:lnTo>
                      <a:lnTo>
                        <a:pt x="316" y="152"/>
                      </a:lnTo>
                      <a:lnTo>
                        <a:pt x="317" y="158"/>
                      </a:lnTo>
                      <a:lnTo>
                        <a:pt x="317" y="166"/>
                      </a:lnTo>
                      <a:lnTo>
                        <a:pt x="316" y="172"/>
                      </a:lnTo>
                      <a:lnTo>
                        <a:pt x="316" y="178"/>
                      </a:lnTo>
                      <a:lnTo>
                        <a:pt x="311" y="190"/>
                      </a:lnTo>
                      <a:lnTo>
                        <a:pt x="308" y="194"/>
                      </a:lnTo>
                      <a:lnTo>
                        <a:pt x="304" y="199"/>
                      </a:lnTo>
                      <a:lnTo>
                        <a:pt x="301" y="202"/>
                      </a:lnTo>
                      <a:lnTo>
                        <a:pt x="296" y="205"/>
                      </a:lnTo>
                      <a:lnTo>
                        <a:pt x="292" y="208"/>
                      </a:lnTo>
                      <a:lnTo>
                        <a:pt x="286" y="211"/>
                      </a:lnTo>
                      <a:lnTo>
                        <a:pt x="281" y="214"/>
                      </a:lnTo>
                      <a:lnTo>
                        <a:pt x="275" y="215"/>
                      </a:lnTo>
                      <a:lnTo>
                        <a:pt x="265" y="217"/>
                      </a:lnTo>
                      <a:lnTo>
                        <a:pt x="254" y="218"/>
                      </a:lnTo>
                      <a:lnTo>
                        <a:pt x="239" y="217"/>
                      </a:lnTo>
                      <a:lnTo>
                        <a:pt x="225" y="214"/>
                      </a:lnTo>
                      <a:lnTo>
                        <a:pt x="212" y="209"/>
                      </a:lnTo>
                      <a:lnTo>
                        <a:pt x="206" y="206"/>
                      </a:lnTo>
                      <a:lnTo>
                        <a:pt x="200" y="203"/>
                      </a:lnTo>
                      <a:lnTo>
                        <a:pt x="194" y="199"/>
                      </a:lnTo>
                      <a:lnTo>
                        <a:pt x="189" y="194"/>
                      </a:lnTo>
                      <a:lnTo>
                        <a:pt x="185" y="188"/>
                      </a:lnTo>
                      <a:lnTo>
                        <a:pt x="182" y="182"/>
                      </a:lnTo>
                      <a:lnTo>
                        <a:pt x="179" y="175"/>
                      </a:lnTo>
                      <a:lnTo>
                        <a:pt x="176" y="167"/>
                      </a:lnTo>
                      <a:lnTo>
                        <a:pt x="174" y="160"/>
                      </a:lnTo>
                      <a:lnTo>
                        <a:pt x="174" y="151"/>
                      </a:lnTo>
                      <a:lnTo>
                        <a:pt x="176" y="133"/>
                      </a:lnTo>
                      <a:lnTo>
                        <a:pt x="179" y="118"/>
                      </a:lnTo>
                      <a:lnTo>
                        <a:pt x="183" y="101"/>
                      </a:lnTo>
                      <a:lnTo>
                        <a:pt x="189" y="84"/>
                      </a:lnTo>
                      <a:lnTo>
                        <a:pt x="263" y="84"/>
                      </a:lnTo>
                      <a:close/>
                    </a:path>
                  </a:pathLst>
                </a:custGeom>
                <a:solidFill>
                  <a:srgbClr val="3d5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446640" y="4156200"/>
            <a:ext cx="2813040" cy="1447560"/>
          </a:xfrm>
          <a:custGeom>
            <a:avLst/>
            <a:gdLst/>
            <a:ahLst/>
            <a:rect l="l" t="t" r="r" b="b"/>
            <a:pathLst>
              <a:path w="3120" h="984">
                <a:moveTo>
                  <a:pt x="0" y="944"/>
                </a:moveTo>
                <a:cubicBezTo>
                  <a:pt x="108" y="964"/>
                  <a:pt x="216" y="984"/>
                  <a:pt x="336" y="848"/>
                </a:cubicBezTo>
                <a:cubicBezTo>
                  <a:pt x="456" y="712"/>
                  <a:pt x="592" y="256"/>
                  <a:pt x="720" y="128"/>
                </a:cubicBezTo>
                <a:cubicBezTo>
                  <a:pt x="848" y="0"/>
                  <a:pt x="960" y="8"/>
                  <a:pt x="1104" y="80"/>
                </a:cubicBezTo>
                <a:cubicBezTo>
                  <a:pt x="1248" y="152"/>
                  <a:pt x="1416" y="440"/>
                  <a:pt x="1584" y="560"/>
                </a:cubicBezTo>
                <a:cubicBezTo>
                  <a:pt x="1752" y="680"/>
                  <a:pt x="1928" y="744"/>
                  <a:pt x="2112" y="800"/>
                </a:cubicBezTo>
                <a:cubicBezTo>
                  <a:pt x="2296" y="856"/>
                  <a:pt x="2520" y="872"/>
                  <a:pt x="2688" y="896"/>
                </a:cubicBezTo>
                <a:cubicBezTo>
                  <a:pt x="2856" y="920"/>
                  <a:pt x="2988" y="932"/>
                  <a:pt x="3120" y="94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6000" y="5576760"/>
            <a:ext cx="5419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016000" y="184284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6720" y="57452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18600">
            <a:off x="-243360" y="349128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Impact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76212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Temporal organisation of resource uses</a:t>
            </a:r>
            <a:br>
              <a:rPr sz="3200"/>
            </a:b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Mixed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54160" y="2286000"/>
            <a:ext cx="4361040" cy="3251160"/>
          </a:xfrm>
          <a:custGeom>
            <a:avLst/>
            <a:gdLst/>
            <a:ahLst/>
            <a:rect l="l" t="t" r="r" b="b"/>
            <a:pathLst>
              <a:path w="2928" h="2384">
                <a:moveTo>
                  <a:pt x="0" y="2384"/>
                </a:moveTo>
                <a:cubicBezTo>
                  <a:pt x="100" y="2380"/>
                  <a:pt x="200" y="2376"/>
                  <a:pt x="288" y="2288"/>
                </a:cubicBezTo>
                <a:cubicBezTo>
                  <a:pt x="376" y="2200"/>
                  <a:pt x="424" y="2144"/>
                  <a:pt x="528" y="1856"/>
                </a:cubicBezTo>
                <a:cubicBezTo>
                  <a:pt x="632" y="1568"/>
                  <a:pt x="808" y="848"/>
                  <a:pt x="912" y="560"/>
                </a:cubicBezTo>
                <a:cubicBezTo>
                  <a:pt x="1016" y="272"/>
                  <a:pt x="1048" y="216"/>
                  <a:pt x="1152" y="128"/>
                </a:cubicBezTo>
                <a:cubicBezTo>
                  <a:pt x="1256" y="40"/>
                  <a:pt x="1408" y="0"/>
                  <a:pt x="1536" y="32"/>
                </a:cubicBezTo>
                <a:cubicBezTo>
                  <a:pt x="1664" y="64"/>
                  <a:pt x="1808" y="184"/>
                  <a:pt x="1920" y="320"/>
                </a:cubicBezTo>
                <a:cubicBezTo>
                  <a:pt x="2032" y="456"/>
                  <a:pt x="2128" y="720"/>
                  <a:pt x="2208" y="848"/>
                </a:cubicBezTo>
                <a:cubicBezTo>
                  <a:pt x="2288" y="976"/>
                  <a:pt x="2304" y="1016"/>
                  <a:pt x="2400" y="1088"/>
                </a:cubicBezTo>
                <a:cubicBezTo>
                  <a:pt x="2496" y="1160"/>
                  <a:pt x="2696" y="1240"/>
                  <a:pt x="2784" y="1280"/>
                </a:cubicBezTo>
                <a:cubicBezTo>
                  <a:pt x="2872" y="1320"/>
                  <a:pt x="2900" y="1324"/>
                  <a:pt x="2928" y="13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20920" y="3911760"/>
            <a:ext cx="4994280" cy="1650960"/>
          </a:xfrm>
          <a:custGeom>
            <a:avLst/>
            <a:gdLst/>
            <a:ahLst/>
            <a:rect l="l" t="t" r="r" b="b"/>
            <a:pathLst>
              <a:path w="3408" h="1040">
                <a:moveTo>
                  <a:pt x="0" y="1040"/>
                </a:moveTo>
                <a:cubicBezTo>
                  <a:pt x="80" y="1024"/>
                  <a:pt x="160" y="1008"/>
                  <a:pt x="240" y="944"/>
                </a:cubicBezTo>
                <a:cubicBezTo>
                  <a:pt x="320" y="880"/>
                  <a:pt x="400" y="768"/>
                  <a:pt x="480" y="656"/>
                </a:cubicBezTo>
                <a:cubicBezTo>
                  <a:pt x="560" y="544"/>
                  <a:pt x="632" y="376"/>
                  <a:pt x="720" y="272"/>
                </a:cubicBezTo>
                <a:cubicBezTo>
                  <a:pt x="808" y="168"/>
                  <a:pt x="872" y="64"/>
                  <a:pt x="1008" y="32"/>
                </a:cubicBezTo>
                <a:cubicBezTo>
                  <a:pt x="1144" y="0"/>
                  <a:pt x="1384" y="16"/>
                  <a:pt x="1536" y="80"/>
                </a:cubicBezTo>
                <a:cubicBezTo>
                  <a:pt x="1688" y="144"/>
                  <a:pt x="1800" y="328"/>
                  <a:pt x="1920" y="416"/>
                </a:cubicBezTo>
                <a:cubicBezTo>
                  <a:pt x="2040" y="504"/>
                  <a:pt x="2072" y="544"/>
                  <a:pt x="2256" y="608"/>
                </a:cubicBezTo>
                <a:cubicBezTo>
                  <a:pt x="2440" y="672"/>
                  <a:pt x="2832" y="760"/>
                  <a:pt x="3024" y="800"/>
                </a:cubicBezTo>
                <a:cubicBezTo>
                  <a:pt x="3216" y="840"/>
                  <a:pt x="3312" y="844"/>
                  <a:pt x="3408" y="8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2160" y="3886200"/>
            <a:ext cx="2813040" cy="1676520"/>
          </a:xfrm>
          <a:custGeom>
            <a:avLst/>
            <a:gdLst/>
            <a:ahLst/>
            <a:rect l="l" t="t" r="r" b="b"/>
            <a:pathLst>
              <a:path w="1920" h="968">
                <a:moveTo>
                  <a:pt x="0" y="968"/>
                </a:moveTo>
                <a:cubicBezTo>
                  <a:pt x="88" y="944"/>
                  <a:pt x="176" y="920"/>
                  <a:pt x="240" y="872"/>
                </a:cubicBezTo>
                <a:cubicBezTo>
                  <a:pt x="304" y="824"/>
                  <a:pt x="328" y="800"/>
                  <a:pt x="384" y="680"/>
                </a:cubicBezTo>
                <a:cubicBezTo>
                  <a:pt x="440" y="560"/>
                  <a:pt x="520" y="264"/>
                  <a:pt x="576" y="152"/>
                </a:cubicBezTo>
                <a:cubicBezTo>
                  <a:pt x="632" y="40"/>
                  <a:pt x="672" y="16"/>
                  <a:pt x="720" y="8"/>
                </a:cubicBezTo>
                <a:cubicBezTo>
                  <a:pt x="768" y="0"/>
                  <a:pt x="816" y="32"/>
                  <a:pt x="864" y="104"/>
                </a:cubicBezTo>
                <a:cubicBezTo>
                  <a:pt x="912" y="176"/>
                  <a:pt x="944" y="336"/>
                  <a:pt x="1008" y="440"/>
                </a:cubicBezTo>
                <a:cubicBezTo>
                  <a:pt x="1072" y="544"/>
                  <a:pt x="1144" y="656"/>
                  <a:pt x="1248" y="728"/>
                </a:cubicBezTo>
                <a:cubicBezTo>
                  <a:pt x="1352" y="800"/>
                  <a:pt x="1520" y="840"/>
                  <a:pt x="1632" y="872"/>
                </a:cubicBezTo>
                <a:cubicBezTo>
                  <a:pt x="1744" y="904"/>
                  <a:pt x="1832" y="912"/>
                  <a:pt x="1920" y="92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9760" y="2324160"/>
            <a:ext cx="5275440" cy="2095560"/>
          </a:xfrm>
          <a:custGeom>
            <a:avLst/>
            <a:gdLst/>
            <a:ahLst/>
            <a:rect l="l" t="t" r="r" b="b"/>
            <a:pathLst>
              <a:path w="3600" h="1128">
                <a:moveTo>
                  <a:pt x="0" y="0"/>
                </a:moveTo>
                <a:cubicBezTo>
                  <a:pt x="96" y="112"/>
                  <a:pt x="192" y="224"/>
                  <a:pt x="384" y="336"/>
                </a:cubicBezTo>
                <a:cubicBezTo>
                  <a:pt x="576" y="448"/>
                  <a:pt x="840" y="568"/>
                  <a:pt x="1152" y="672"/>
                </a:cubicBezTo>
                <a:cubicBezTo>
                  <a:pt x="1464" y="776"/>
                  <a:pt x="1904" y="888"/>
                  <a:pt x="2256" y="960"/>
                </a:cubicBezTo>
                <a:cubicBezTo>
                  <a:pt x="2608" y="1032"/>
                  <a:pt x="3040" y="1080"/>
                  <a:pt x="3264" y="1104"/>
                </a:cubicBezTo>
                <a:cubicBezTo>
                  <a:pt x="3488" y="1128"/>
                  <a:pt x="3544" y="1088"/>
                  <a:pt x="3600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5200" y="304920"/>
            <a:ext cx="7754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The fundamental challenges</a:t>
            </a:r>
            <a:br>
              <a:rPr sz="3600"/>
            </a:b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of managing land/water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41400" y="23623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nderstanding the consequences of resource uses distributed across land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nderstanding the consequences of resource uses distribu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640" y="228600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640" y="518148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81160" y="548568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kay….so how to you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do it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480" y="1523520"/>
            <a:ext cx="7731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What is the relationship between integrated catchment management</a:t>
            </a:r>
            <a:br>
              <a:rPr sz="4000"/>
            </a:b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and</a:t>
            </a:r>
            <a:br>
              <a:rPr sz="4000"/>
            </a:b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an ecosystem approach to</a:t>
            </a:r>
            <a:br>
              <a:rPr sz="4000"/>
            </a:b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resource management?</a:t>
            </a: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4480" y="5410080"/>
            <a:ext cx="7721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4480" y="1219320"/>
            <a:ext cx="7721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39000" y="2270160"/>
            <a:ext cx="16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7560" y="3503520"/>
            <a:ext cx="172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currenci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9000" y="434196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51120" y="1446120"/>
            <a:ext cx="1473120" cy="4457880"/>
            <a:chOff x="1851120" y="1446120"/>
            <a:chExt cx="1473120" cy="4457880"/>
          </a:xfrm>
        </p:grpSpPr>
        <p:sp>
          <p:nvSpPr>
            <p:cNvPr id="176" name=""/>
            <p:cNvSpPr/>
            <p:nvPr/>
          </p:nvSpPr>
          <p:spPr>
            <a:xfrm>
              <a:off x="1971000" y="1981080"/>
              <a:ext cx="121932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S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nve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Fung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5760" y="3524400"/>
              <a:ext cx="120456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/N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5760" y="4272120"/>
              <a:ext cx="1204560" cy="916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li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Ge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Top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51120" y="1446120"/>
              <a:ext cx="147312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8520" y="14968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70000" y="525636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70440" y="594216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Product: How do they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84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44720" y="68904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The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97720" y="2381400"/>
            <a:ext cx="292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Exploring th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and fun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97360" y="6095880"/>
            <a:ext cx="1882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71720" y="1981080"/>
            <a:ext cx="1219320" cy="1465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nv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6120" y="3524400"/>
            <a:ext cx="120492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/N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6120" y="4272120"/>
            <a:ext cx="1204920" cy="916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Ge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op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51120" y="1446120"/>
            <a:ext cx="1473120" cy="44578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8520" y="149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70000" y="525636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8360" y="91440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e Ecosyste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587880" y="329076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e Catch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440" y="594216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Product: How do they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84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8280" y="22860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The Simple Catc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3520" y="2381400"/>
            <a:ext cx="360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Quantifying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pools and flux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ithin spatially-explic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ystems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8880" y="1905120"/>
            <a:ext cx="1909800" cy="337176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7760" y="2209680"/>
            <a:ext cx="947880" cy="459720"/>
            <a:chOff x="3587760" y="2209680"/>
            <a:chExt cx="947880" cy="459720"/>
          </a:xfrm>
        </p:grpSpPr>
        <p:sp>
          <p:nvSpPr>
            <p:cNvPr id="203" name=""/>
            <p:cNvSpPr/>
            <p:nvPr/>
          </p:nvSpPr>
          <p:spPr>
            <a:xfrm>
              <a:off x="3587760" y="2438280"/>
              <a:ext cx="56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83480" y="2209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87760" y="4419720"/>
            <a:ext cx="1199160" cy="459720"/>
            <a:chOff x="3587760" y="4419720"/>
            <a:chExt cx="1199160" cy="459720"/>
          </a:xfrm>
        </p:grpSpPr>
        <p:sp>
          <p:nvSpPr>
            <p:cNvPr id="206" name=""/>
            <p:cNvSpPr/>
            <p:nvPr/>
          </p:nvSpPr>
          <p:spPr>
            <a:xfrm>
              <a:off x="3587760" y="4648320"/>
              <a:ext cx="56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0240" y="4419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6240" y="1981080"/>
            <a:ext cx="1220760" cy="1465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nv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0640" y="3524400"/>
            <a:ext cx="120636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/N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0640" y="4272120"/>
            <a:ext cx="1206360" cy="916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Ge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op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1446120"/>
            <a:ext cx="1474560" cy="44578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4120" y="149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45240" y="525636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9040" y="1446120"/>
            <a:ext cx="1474920" cy="44578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83880" y="1506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77920" y="525636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81440" y="1981080"/>
            <a:ext cx="121932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90800" y="3524400"/>
            <a:ext cx="12099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92600" y="4259160"/>
            <a:ext cx="12081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7880" y="91440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e Ecosyste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-1413360" y="33289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e Catch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94760" y="594216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Product: How do they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052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8280" y="228600"/>
            <a:ext cx="393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The Paired Catc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40320" y="236376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Exploring the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of simpl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3400" y="1905120"/>
            <a:ext cx="2331720" cy="3371760"/>
            <a:chOff x="833400" y="1905120"/>
            <a:chExt cx="2331720" cy="3371760"/>
          </a:xfrm>
        </p:grpSpPr>
        <p:sp>
          <p:nvSpPr>
            <p:cNvPr id="228" name=""/>
            <p:cNvSpPr/>
            <p:nvPr/>
          </p:nvSpPr>
          <p:spPr>
            <a:xfrm>
              <a:off x="833400" y="1905120"/>
              <a:ext cx="1909800" cy="3371760"/>
            </a:xfrm>
            <a:prstGeom prst="rect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2057400"/>
              <a:ext cx="421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5029200"/>
              <a:ext cx="421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446640" y="1905120"/>
            <a:ext cx="2320560" cy="3371760"/>
            <a:chOff x="3446640" y="1905120"/>
            <a:chExt cx="2320560" cy="3371760"/>
          </a:xfrm>
        </p:grpSpPr>
        <p:sp>
          <p:nvSpPr>
            <p:cNvPr id="232" name=""/>
            <p:cNvSpPr/>
            <p:nvPr/>
          </p:nvSpPr>
          <p:spPr>
            <a:xfrm>
              <a:off x="3446640" y="1905120"/>
              <a:ext cx="1909080" cy="3371760"/>
            </a:xfrm>
            <a:prstGeom prst="rect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5280" y="2057400"/>
              <a:ext cx="421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45280" y="5029200"/>
              <a:ext cx="421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3400" y="1905120"/>
            <a:ext cx="5637240" cy="337176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99880" y="914400"/>
            <a:ext cx="6015960" cy="5396040"/>
            <a:chOff x="299880" y="914400"/>
            <a:chExt cx="6015960" cy="5396040"/>
          </a:xfrm>
        </p:grpSpPr>
        <p:sp>
          <p:nvSpPr>
            <p:cNvPr id="237" name=""/>
            <p:cNvSpPr/>
            <p:nvPr/>
          </p:nvSpPr>
          <p:spPr>
            <a:xfrm>
              <a:off x="1145160" y="1981080"/>
              <a:ext cx="122076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S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nve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Fung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59920" y="3524400"/>
              <a:ext cx="120564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/N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59920" y="4272120"/>
              <a:ext cx="1205640" cy="916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li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Ge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Top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5280" y="1446120"/>
              <a:ext cx="147384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3040" y="14968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441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2320" y="1446120"/>
              <a:ext cx="147564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6440" y="150660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Grass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515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41520" y="1446120"/>
              <a:ext cx="147276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91640" y="150660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Wet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6040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54000" y="1981080"/>
              <a:ext cx="1218960" cy="146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64440" y="3524400"/>
              <a:ext cx="120888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6240" y="4259160"/>
              <a:ext cx="1207080" cy="916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61760" y="1981080"/>
              <a:ext cx="1218960" cy="1465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3280" y="3524400"/>
              <a:ext cx="1207440" cy="642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74720" y="4267080"/>
              <a:ext cx="120600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4803840" y="343548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Heterogeneous Bas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99880" y="914400"/>
              <a:ext cx="5362560" cy="5396040"/>
              <a:chOff x="299880" y="914400"/>
              <a:chExt cx="5362560" cy="5396040"/>
            </a:xfrm>
          </p:grpSpPr>
          <p:sp>
            <p:nvSpPr>
              <p:cNvPr id="257" name=""/>
              <p:cNvSpPr/>
              <p:nvPr/>
            </p:nvSpPr>
            <p:spPr>
              <a:xfrm>
                <a:off x="1217520" y="914400"/>
                <a:ext cx="39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ffffff"/>
                    </a:solidFill>
                    <a:latin typeface="Arial"/>
                  </a:rPr>
                  <a:t>The Ecosystem Approa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-1413360" y="332892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ffffff"/>
                    </a:solidFill>
                    <a:latin typeface="Arial"/>
                  </a:rPr>
                  <a:t>The Catchment Approa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94040" y="5942160"/>
                <a:ext cx="456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ffffff"/>
                    </a:solidFill>
                    <a:latin typeface="Arial"/>
                  </a:rPr>
                  <a:t>Knowledge Product: How do they work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6892920" y="2181240"/>
            <a:ext cx="204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Exploring linkages among landscap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052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948440" y="41911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02440" y="352440"/>
            <a:ext cx="456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The Integrated Catc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470280" y="2057400"/>
            <a:ext cx="422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470280" y="5105520"/>
            <a:ext cx="4222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469280" y="2665440"/>
            <a:ext cx="147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Produc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How sh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they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mana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8052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2280" y="504720"/>
            <a:ext cx="38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The “Eco-Catch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94760" y="594216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Product: How do they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99880" y="914400"/>
            <a:ext cx="7589520" cy="4989600"/>
            <a:chOff x="299880" y="914400"/>
            <a:chExt cx="7589520" cy="4989600"/>
          </a:xfrm>
        </p:grpSpPr>
        <p:sp>
          <p:nvSpPr>
            <p:cNvPr id="273" name=""/>
            <p:cNvSpPr/>
            <p:nvPr/>
          </p:nvSpPr>
          <p:spPr>
            <a:xfrm>
              <a:off x="1217520" y="914400"/>
              <a:ext cx="39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ff"/>
                  </a:solidFill>
                  <a:latin typeface="Arial"/>
                </a:rPr>
                <a:t>The Ecosystem 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5160" y="1981080"/>
              <a:ext cx="122076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S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nve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Fung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59920" y="3524400"/>
              <a:ext cx="120564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/N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59920" y="4272120"/>
              <a:ext cx="1205640" cy="916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li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Ge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Top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25280" y="1446120"/>
              <a:ext cx="147384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83400" y="14968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441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2680" y="1446120"/>
              <a:ext cx="147564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56440" y="150660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Grass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5192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41520" y="1446120"/>
              <a:ext cx="147276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91640" y="150660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Wet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07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54360" y="1981080"/>
              <a:ext cx="1218960" cy="146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4440" y="3524400"/>
              <a:ext cx="120888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6240" y="4259160"/>
              <a:ext cx="1207080" cy="916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2120" y="1981080"/>
              <a:ext cx="1218960" cy="1465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73640" y="3524400"/>
              <a:ext cx="1207440" cy="642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75080" y="4267080"/>
              <a:ext cx="120600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040" y="1905120"/>
              <a:ext cx="6622200" cy="337176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-1413360" y="332568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ff"/>
                  </a:solidFill>
                  <a:latin typeface="Arial"/>
                </a:rPr>
                <a:t>The Catchment 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929920" y="343548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Heterogeneous Bas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90880" y="1536840"/>
              <a:ext cx="21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other eco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717520" y="2003400"/>
            <a:ext cx="1351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Econo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63880" y="413532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NZ" sz="16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48440" y="419112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94760" y="594216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Product: How do they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9280" y="2665440"/>
            <a:ext cx="147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Produc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How sh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they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mana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80520" y="5180040"/>
            <a:ext cx="105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2640" y="6095880"/>
            <a:ext cx="1882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99880" y="914400"/>
            <a:ext cx="7589520" cy="4989600"/>
            <a:chOff x="299880" y="914400"/>
            <a:chExt cx="7589520" cy="4989600"/>
          </a:xfrm>
        </p:grpSpPr>
        <p:sp>
          <p:nvSpPr>
            <p:cNvPr id="304" name=""/>
            <p:cNvSpPr/>
            <p:nvPr/>
          </p:nvSpPr>
          <p:spPr>
            <a:xfrm>
              <a:off x="1145160" y="1981080"/>
              <a:ext cx="122076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So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nve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Fung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59920" y="3524400"/>
              <a:ext cx="120564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/N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9920" y="4272120"/>
              <a:ext cx="1205640" cy="916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li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Ge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Top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25280" y="1446120"/>
              <a:ext cx="147384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83400" y="14968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ff"/>
                  </a:solidFill>
                  <a:latin typeface="Arial"/>
                </a:rPr>
                <a:t>Fo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441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040" y="1905120"/>
              <a:ext cx="6622200" cy="337176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17520" y="914400"/>
              <a:ext cx="39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ff"/>
                  </a:solidFill>
                  <a:latin typeface="Arial"/>
                </a:rPr>
                <a:t>The Ecosystem 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-1413360" y="333108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ffffff"/>
                  </a:solidFill>
                  <a:latin typeface="Arial"/>
                </a:rPr>
                <a:t>The Catchment 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5929920" y="343548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Heterogeneous Bas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90880" y="1536840"/>
              <a:ext cx="21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other eco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58200" y="1979640"/>
              <a:ext cx="1395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Tour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6320" y="4111560"/>
              <a:ext cx="152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457960" y="504720"/>
            <a:ext cx="33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U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“</a:t>
            </a: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Eco-Catchme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48440" y="419112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33760" y="1446120"/>
            <a:ext cx="1474560" cy="4457880"/>
            <a:chOff x="2633760" y="1446120"/>
            <a:chExt cx="1474560" cy="4457880"/>
          </a:xfrm>
        </p:grpSpPr>
        <p:sp>
          <p:nvSpPr>
            <p:cNvPr id="320" name=""/>
            <p:cNvSpPr/>
            <p:nvPr/>
          </p:nvSpPr>
          <p:spPr>
            <a:xfrm>
              <a:off x="2633760" y="1446120"/>
              <a:ext cx="147456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32920" y="150660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00"/>
                  </a:solidFill>
                  <a:latin typeface="Arial"/>
                </a:rPr>
                <a:t>Pa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5228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5520" y="1981080"/>
              <a:ext cx="121932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roa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stru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3680" y="3546360"/>
              <a:ext cx="120492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fertili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3680" y="4267080"/>
              <a:ext cx="1204920" cy="916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expect’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241880" y="1446120"/>
            <a:ext cx="1473120" cy="4457880"/>
            <a:chOff x="4241880" y="1446120"/>
            <a:chExt cx="1473120" cy="4457880"/>
          </a:xfrm>
        </p:grpSpPr>
        <p:sp>
          <p:nvSpPr>
            <p:cNvPr id="327" name=""/>
            <p:cNvSpPr/>
            <p:nvPr/>
          </p:nvSpPr>
          <p:spPr>
            <a:xfrm>
              <a:off x="4241880" y="1446120"/>
              <a:ext cx="1473120" cy="44578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91280" y="150660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ffff00"/>
                  </a:solidFill>
                  <a:latin typeface="Arial"/>
                </a:rPr>
                <a:t>Devel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60760" y="525636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Ty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S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60320" y="1981080"/>
              <a:ext cx="1221120" cy="146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build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sew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9880" y="3524400"/>
              <a:ext cx="1206360" cy="6426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9880" y="4267080"/>
              <a:ext cx="1206360" cy="1191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p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land 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00"/>
                  </a:solidFill>
                  <a:latin typeface="Arial"/>
                </a:rPr>
                <a:t>std li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5514840" y="3394080"/>
            <a:ext cx="1019160" cy="1181160"/>
            <a:chOff x="5514840" y="3394080"/>
            <a:chExt cx="1019160" cy="1181160"/>
          </a:xfrm>
        </p:grpSpPr>
        <p:sp>
          <p:nvSpPr>
            <p:cNvPr id="334" name=""/>
            <p:cNvSpPr/>
            <p:nvPr/>
          </p:nvSpPr>
          <p:spPr>
            <a:xfrm>
              <a:off x="5514840" y="3394080"/>
              <a:ext cx="1019160" cy="1181160"/>
            </a:xfrm>
            <a:custGeom>
              <a:avLst/>
              <a:gdLst/>
              <a:ahLst/>
              <a:rect l="l" t="t" r="r" b="b"/>
              <a:pathLst>
                <a:path w="861" h="940">
                  <a:moveTo>
                    <a:pt x="0" y="857"/>
                  </a:moveTo>
                  <a:lnTo>
                    <a:pt x="11" y="703"/>
                  </a:lnTo>
                  <a:lnTo>
                    <a:pt x="42" y="538"/>
                  </a:lnTo>
                  <a:lnTo>
                    <a:pt x="83" y="446"/>
                  </a:lnTo>
                  <a:lnTo>
                    <a:pt x="131" y="350"/>
                  </a:lnTo>
                  <a:lnTo>
                    <a:pt x="192" y="257"/>
                  </a:lnTo>
                  <a:lnTo>
                    <a:pt x="264" y="172"/>
                  </a:lnTo>
                  <a:lnTo>
                    <a:pt x="354" y="65"/>
                  </a:lnTo>
                  <a:lnTo>
                    <a:pt x="429" y="0"/>
                  </a:lnTo>
                  <a:lnTo>
                    <a:pt x="467" y="24"/>
                  </a:lnTo>
                  <a:lnTo>
                    <a:pt x="525" y="82"/>
                  </a:lnTo>
                  <a:lnTo>
                    <a:pt x="638" y="202"/>
                  </a:lnTo>
                  <a:lnTo>
                    <a:pt x="700" y="281"/>
                  </a:lnTo>
                  <a:lnTo>
                    <a:pt x="758" y="394"/>
                  </a:lnTo>
                  <a:lnTo>
                    <a:pt x="803" y="490"/>
                  </a:lnTo>
                  <a:lnTo>
                    <a:pt x="840" y="624"/>
                  </a:lnTo>
                  <a:lnTo>
                    <a:pt x="861" y="754"/>
                  </a:lnTo>
                  <a:lnTo>
                    <a:pt x="861" y="840"/>
                  </a:lnTo>
                  <a:lnTo>
                    <a:pt x="765" y="885"/>
                  </a:lnTo>
                  <a:lnTo>
                    <a:pt x="624" y="922"/>
                  </a:lnTo>
                  <a:lnTo>
                    <a:pt x="491" y="940"/>
                  </a:lnTo>
                  <a:lnTo>
                    <a:pt x="354" y="940"/>
                  </a:lnTo>
                  <a:lnTo>
                    <a:pt x="168" y="912"/>
                  </a:lnTo>
                  <a:lnTo>
                    <a:pt x="62" y="878"/>
                  </a:lnTo>
                  <a:lnTo>
                    <a:pt x="0" y="85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2920" y="3852720"/>
              <a:ext cx="9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ffff00"/>
                  </a:solidFill>
                  <a:latin typeface="Arial"/>
                </a:rPr>
                <a:t>I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80880" y="304920"/>
            <a:ext cx="47008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Integrated catch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ea7934"/>
                </a:solidFill>
                <a:latin typeface="Arial"/>
              </a:rPr>
              <a:t>…</a:t>
            </a:r>
            <a:r>
              <a:rPr b="1" lang="en-NZ" sz="2400" spc="-1" strike="noStrike">
                <a:solidFill>
                  <a:srgbClr val="ea7934"/>
                </a:solidFill>
                <a:latin typeface="Arial"/>
              </a:rPr>
              <a:t>as a way of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ea7934"/>
                </a:solidFill>
                <a:latin typeface="Arial"/>
              </a:rPr>
              <a:t>about “commun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ea7934"/>
                </a:solidFill>
                <a:latin typeface="Arial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789440" y="1917720"/>
            <a:ext cx="2525760" cy="2654280"/>
            <a:chOff x="4789440" y="1917720"/>
            <a:chExt cx="2525760" cy="2654280"/>
          </a:xfrm>
        </p:grpSpPr>
        <p:sp>
          <p:nvSpPr>
            <p:cNvPr id="338" name=""/>
            <p:cNvSpPr/>
            <p:nvPr/>
          </p:nvSpPr>
          <p:spPr>
            <a:xfrm>
              <a:off x="4789440" y="1917720"/>
              <a:ext cx="2525760" cy="2654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80120" y="2309760"/>
              <a:ext cx="160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Expec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005360" y="3137040"/>
            <a:ext cx="2527200" cy="2654280"/>
            <a:chOff x="4005360" y="3137040"/>
            <a:chExt cx="2527200" cy="2654280"/>
          </a:xfrm>
        </p:grpSpPr>
        <p:sp>
          <p:nvSpPr>
            <p:cNvPr id="341" name=""/>
            <p:cNvSpPr/>
            <p:nvPr/>
          </p:nvSpPr>
          <p:spPr>
            <a:xfrm>
              <a:off x="4005360" y="3137040"/>
              <a:ext cx="2527200" cy="2654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18400" y="442764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67000" y="1688760"/>
            <a:ext cx="1763640" cy="2955600"/>
            <a:chOff x="3267000" y="1688760"/>
            <a:chExt cx="1763640" cy="2955600"/>
          </a:xfrm>
        </p:grpSpPr>
        <p:sp>
          <p:nvSpPr>
            <p:cNvPr id="344" name=""/>
            <p:cNvSpPr/>
            <p:nvPr/>
          </p:nvSpPr>
          <p:spPr>
            <a:xfrm>
              <a:off x="3419280" y="296856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NZ" sz="2000" spc="-1" strike="noStrike">
                  <a:solidFill>
                    <a:srgbClr val="ffffff"/>
                  </a:solidFill>
                  <a:latin typeface="Arial"/>
                </a:rPr>
                <a:t>Outre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90480" y="1688760"/>
              <a:ext cx="740160" cy="126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267000" y="3377520"/>
              <a:ext cx="738720" cy="126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516640" y="3137040"/>
            <a:ext cx="2527200" cy="2654280"/>
            <a:chOff x="5516640" y="3137040"/>
            <a:chExt cx="2527200" cy="2654280"/>
          </a:xfrm>
        </p:grpSpPr>
        <p:sp>
          <p:nvSpPr>
            <p:cNvPr id="348" name=""/>
            <p:cNvSpPr/>
            <p:nvPr/>
          </p:nvSpPr>
          <p:spPr>
            <a:xfrm>
              <a:off x="5516640" y="3137040"/>
              <a:ext cx="2527200" cy="2654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12040" y="4427640"/>
              <a:ext cx="152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ffffff"/>
                  </a:solidFill>
                  <a:latin typeface="Arial"/>
                </a:rPr>
                <a:t>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077240" y="1749600"/>
            <a:ext cx="1919160" cy="2955240"/>
            <a:chOff x="7077240" y="1749600"/>
            <a:chExt cx="1919160" cy="2955240"/>
          </a:xfrm>
        </p:grpSpPr>
        <p:sp>
          <p:nvSpPr>
            <p:cNvPr id="351" name=""/>
            <p:cNvSpPr/>
            <p:nvPr/>
          </p:nvSpPr>
          <p:spPr>
            <a:xfrm>
              <a:off x="7343640" y="296856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NZ" sz="2000" spc="-1" strike="noStrike">
                  <a:solidFill>
                    <a:srgbClr val="ffffff"/>
                  </a:solidFill>
                  <a:latin typeface="Arial"/>
                </a:rPr>
                <a:t>Gover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7077240" y="1749600"/>
              <a:ext cx="738720" cy="1266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43480" y="3438360"/>
              <a:ext cx="740160" cy="1266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779640" y="5851440"/>
            <a:ext cx="4435200" cy="398880"/>
            <a:chOff x="3779640" y="5851440"/>
            <a:chExt cx="4435200" cy="398880"/>
          </a:xfrm>
        </p:grpSpPr>
        <p:sp>
          <p:nvSpPr>
            <p:cNvPr id="355" name=""/>
            <p:cNvSpPr/>
            <p:nvPr/>
          </p:nvSpPr>
          <p:spPr>
            <a:xfrm>
              <a:off x="5219640" y="585144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NZ" sz="2000" spc="-1" strike="noStrike">
                  <a:solidFill>
                    <a:srgbClr val="ffffff"/>
                  </a:solidFill>
                  <a:latin typeface="Arial"/>
                </a:rPr>
                <a:t>Consul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93560" y="6032520"/>
              <a:ext cx="1421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779640" y="6032520"/>
              <a:ext cx="1420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4120" y="83772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What is “integrated catchment management”?</a:t>
            </a: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47520" y="2666880"/>
            <a:ext cx="7383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n approach which recognises the catchment or river basin as the appropriate organising unit for research on ecosystem processes for the purpose of managing natural resources in a context that includes social, economic and political consid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9400" y="5562720"/>
            <a:ext cx="7721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2514600"/>
            <a:ext cx="7721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7934"/>
                </a:solidFill>
                <a:latin typeface="Arial"/>
              </a:rPr>
              <a:t>Key points</a:t>
            </a: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205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CM as a research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CM as a management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rategic context for I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tueka Catchment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Waitakere City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2057400"/>
            <a:ext cx="77882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7880" y="5486400"/>
            <a:ext cx="77882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76520" y="1600200"/>
            <a:ext cx="3124080" cy="4343400"/>
          </a:xfrm>
          <a:custGeom>
            <a:avLst/>
            <a:gdLst/>
            <a:ahLst/>
            <a:rect l="l" t="t" r="r" b="b"/>
            <a:pathLst>
              <a:path w="1968" h="2736">
                <a:moveTo>
                  <a:pt x="336" y="0"/>
                </a:moveTo>
                <a:lnTo>
                  <a:pt x="1968" y="1248"/>
                </a:lnTo>
                <a:lnTo>
                  <a:pt x="1296" y="2736"/>
                </a:lnTo>
                <a:lnTo>
                  <a:pt x="0" y="2736"/>
                </a:lnTo>
                <a:lnTo>
                  <a:pt x="0" y="0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3886200"/>
            <a:ext cx="3276720" cy="20574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lnTo>
                  <a:pt x="624" y="0"/>
                </a:lnTo>
                <a:lnTo>
                  <a:pt x="2064" y="1200"/>
                </a:lnTo>
                <a:lnTo>
                  <a:pt x="2064" y="1296"/>
                </a:lnTo>
                <a:lnTo>
                  <a:pt x="0" y="12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3505320"/>
            <a:ext cx="1600200" cy="2438280"/>
          </a:xfrm>
          <a:custGeom>
            <a:avLst/>
            <a:gdLst/>
            <a:ahLst/>
            <a:rect l="l" t="t" r="r" b="b"/>
            <a:pathLst>
              <a:path w="1008" h="1536">
                <a:moveTo>
                  <a:pt x="0" y="1536"/>
                </a:moveTo>
                <a:lnTo>
                  <a:pt x="720" y="0"/>
                </a:lnTo>
                <a:lnTo>
                  <a:pt x="1008" y="240"/>
                </a:lnTo>
                <a:lnTo>
                  <a:pt x="384" y="1536"/>
                </a:lnTo>
                <a:lnTo>
                  <a:pt x="0" y="153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1600200"/>
            <a:ext cx="5334120" cy="4191120"/>
          </a:xfrm>
          <a:custGeom>
            <a:avLst/>
            <a:gdLst/>
            <a:ahLst/>
            <a:rect l="l" t="t" r="r" b="b"/>
            <a:pathLst>
              <a:path w="3360" h="2640">
                <a:moveTo>
                  <a:pt x="0" y="0"/>
                </a:moveTo>
                <a:lnTo>
                  <a:pt x="3360" y="2640"/>
                </a:lnTo>
                <a:lnTo>
                  <a:pt x="33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ea7934"/>
                </a:solidFill>
                <a:latin typeface="Arial"/>
              </a:rPr>
              <a:t>Why use an ICM approach?</a:t>
            </a:r>
            <a:endParaRPr b="1" lang="en-US" sz="4000" spc="-1" strike="noStrike">
              <a:solidFill>
                <a:srgbClr val="ea7934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600200"/>
            <a:ext cx="5867280" cy="4343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666880"/>
            <a:ext cx="114300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341520" y="2120760"/>
            <a:ext cx="2754360" cy="3441600"/>
            <a:chOff x="3341520" y="2120760"/>
            <a:chExt cx="2754360" cy="3441600"/>
          </a:xfrm>
        </p:grpSpPr>
        <p:sp>
          <p:nvSpPr>
            <p:cNvPr id="81" name=""/>
            <p:cNvSpPr/>
            <p:nvPr/>
          </p:nvSpPr>
          <p:spPr>
            <a:xfrm>
              <a:off x="3341520" y="2120760"/>
              <a:ext cx="2754360" cy="3365640"/>
            </a:xfrm>
            <a:custGeom>
              <a:avLst/>
              <a:gdLst/>
              <a:ahLst/>
              <a:rect l="l" t="t" r="r" b="b"/>
              <a:pathLst>
                <a:path w="1735" h="2120">
                  <a:moveTo>
                    <a:pt x="455" y="2096"/>
                  </a:moveTo>
                  <a:cubicBezTo>
                    <a:pt x="452" y="2072"/>
                    <a:pt x="455" y="2047"/>
                    <a:pt x="447" y="2024"/>
                  </a:cubicBezTo>
                  <a:cubicBezTo>
                    <a:pt x="444" y="2015"/>
                    <a:pt x="430" y="2015"/>
                    <a:pt x="423" y="2008"/>
                  </a:cubicBezTo>
                  <a:cubicBezTo>
                    <a:pt x="416" y="2001"/>
                    <a:pt x="411" y="1993"/>
                    <a:pt x="407" y="1984"/>
                  </a:cubicBezTo>
                  <a:cubicBezTo>
                    <a:pt x="398" y="1967"/>
                    <a:pt x="400" y="1945"/>
                    <a:pt x="391" y="1928"/>
                  </a:cubicBezTo>
                  <a:cubicBezTo>
                    <a:pt x="382" y="1911"/>
                    <a:pt x="365" y="1898"/>
                    <a:pt x="359" y="1880"/>
                  </a:cubicBezTo>
                  <a:cubicBezTo>
                    <a:pt x="354" y="1864"/>
                    <a:pt x="355" y="1844"/>
                    <a:pt x="343" y="1832"/>
                  </a:cubicBezTo>
                  <a:cubicBezTo>
                    <a:pt x="335" y="1824"/>
                    <a:pt x="326" y="1817"/>
                    <a:pt x="319" y="1808"/>
                  </a:cubicBezTo>
                  <a:cubicBezTo>
                    <a:pt x="289" y="1766"/>
                    <a:pt x="311" y="1758"/>
                    <a:pt x="255" y="1744"/>
                  </a:cubicBezTo>
                  <a:cubicBezTo>
                    <a:pt x="221" y="1710"/>
                    <a:pt x="203" y="1695"/>
                    <a:pt x="159" y="1680"/>
                  </a:cubicBezTo>
                  <a:cubicBezTo>
                    <a:pt x="135" y="1656"/>
                    <a:pt x="122" y="1640"/>
                    <a:pt x="111" y="1608"/>
                  </a:cubicBezTo>
                  <a:cubicBezTo>
                    <a:pt x="104" y="1536"/>
                    <a:pt x="112" y="1366"/>
                    <a:pt x="31" y="1312"/>
                  </a:cubicBezTo>
                  <a:cubicBezTo>
                    <a:pt x="24" y="1193"/>
                    <a:pt x="0" y="1077"/>
                    <a:pt x="39" y="960"/>
                  </a:cubicBezTo>
                  <a:cubicBezTo>
                    <a:pt x="42" y="877"/>
                    <a:pt x="39" y="794"/>
                    <a:pt x="47" y="712"/>
                  </a:cubicBezTo>
                  <a:cubicBezTo>
                    <a:pt x="54" y="647"/>
                    <a:pt x="95" y="624"/>
                    <a:pt x="135" y="584"/>
                  </a:cubicBezTo>
                  <a:cubicBezTo>
                    <a:pt x="196" y="523"/>
                    <a:pt x="235" y="444"/>
                    <a:pt x="295" y="384"/>
                  </a:cubicBezTo>
                  <a:cubicBezTo>
                    <a:pt x="298" y="355"/>
                    <a:pt x="295" y="324"/>
                    <a:pt x="303" y="296"/>
                  </a:cubicBezTo>
                  <a:cubicBezTo>
                    <a:pt x="329" y="207"/>
                    <a:pt x="444" y="183"/>
                    <a:pt x="519" y="168"/>
                  </a:cubicBezTo>
                  <a:cubicBezTo>
                    <a:pt x="570" y="146"/>
                    <a:pt x="617" y="121"/>
                    <a:pt x="671" y="112"/>
                  </a:cubicBezTo>
                  <a:cubicBezTo>
                    <a:pt x="728" y="76"/>
                    <a:pt x="789" y="22"/>
                    <a:pt x="855" y="0"/>
                  </a:cubicBezTo>
                  <a:cubicBezTo>
                    <a:pt x="994" y="5"/>
                    <a:pt x="1132" y="9"/>
                    <a:pt x="1271" y="16"/>
                  </a:cubicBezTo>
                  <a:cubicBezTo>
                    <a:pt x="1317" y="18"/>
                    <a:pt x="1386" y="27"/>
                    <a:pt x="1423" y="64"/>
                  </a:cubicBezTo>
                  <a:cubicBezTo>
                    <a:pt x="1472" y="113"/>
                    <a:pt x="1472" y="173"/>
                    <a:pt x="1511" y="224"/>
                  </a:cubicBezTo>
                  <a:cubicBezTo>
                    <a:pt x="1530" y="249"/>
                    <a:pt x="1564" y="270"/>
                    <a:pt x="1591" y="288"/>
                  </a:cubicBezTo>
                  <a:cubicBezTo>
                    <a:pt x="1617" y="340"/>
                    <a:pt x="1645" y="388"/>
                    <a:pt x="1671" y="440"/>
                  </a:cubicBezTo>
                  <a:cubicBezTo>
                    <a:pt x="1674" y="521"/>
                    <a:pt x="1664" y="706"/>
                    <a:pt x="1695" y="800"/>
                  </a:cubicBezTo>
                  <a:cubicBezTo>
                    <a:pt x="1700" y="891"/>
                    <a:pt x="1735" y="1064"/>
                    <a:pt x="1663" y="1136"/>
                  </a:cubicBezTo>
                  <a:cubicBezTo>
                    <a:pt x="1621" y="1235"/>
                    <a:pt x="1615" y="1360"/>
                    <a:pt x="1519" y="1424"/>
                  </a:cubicBezTo>
                  <a:cubicBezTo>
                    <a:pt x="1462" y="1509"/>
                    <a:pt x="1405" y="1597"/>
                    <a:pt x="1335" y="1672"/>
                  </a:cubicBezTo>
                  <a:cubicBezTo>
                    <a:pt x="1312" y="1697"/>
                    <a:pt x="1287" y="1720"/>
                    <a:pt x="1263" y="1744"/>
                  </a:cubicBezTo>
                  <a:cubicBezTo>
                    <a:pt x="1252" y="1755"/>
                    <a:pt x="1242" y="1765"/>
                    <a:pt x="1231" y="1776"/>
                  </a:cubicBezTo>
                  <a:cubicBezTo>
                    <a:pt x="1223" y="1784"/>
                    <a:pt x="1207" y="1800"/>
                    <a:pt x="1207" y="1800"/>
                  </a:cubicBezTo>
                  <a:cubicBezTo>
                    <a:pt x="1193" y="1842"/>
                    <a:pt x="1152" y="1891"/>
                    <a:pt x="1119" y="1920"/>
                  </a:cubicBezTo>
                  <a:cubicBezTo>
                    <a:pt x="1089" y="1946"/>
                    <a:pt x="1042" y="1956"/>
                    <a:pt x="1007" y="1968"/>
                  </a:cubicBezTo>
                  <a:cubicBezTo>
                    <a:pt x="910" y="2000"/>
                    <a:pt x="806" y="2067"/>
                    <a:pt x="703" y="2072"/>
                  </a:cubicBezTo>
                  <a:cubicBezTo>
                    <a:pt x="644" y="2075"/>
                    <a:pt x="586" y="2077"/>
                    <a:pt x="527" y="2080"/>
                  </a:cubicBezTo>
                  <a:cubicBezTo>
                    <a:pt x="519" y="2085"/>
                    <a:pt x="509" y="2088"/>
                    <a:pt x="503" y="2096"/>
                  </a:cubicBezTo>
                  <a:cubicBezTo>
                    <a:pt x="498" y="2103"/>
                    <a:pt x="495" y="2120"/>
                    <a:pt x="495" y="212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038840" y="2679480"/>
              <a:ext cx="1548000" cy="2882880"/>
              <a:chOff x="4038840" y="2679480"/>
              <a:chExt cx="1548000" cy="2882880"/>
            </a:xfrm>
          </p:grpSpPr>
          <p:sp>
            <p:nvSpPr>
              <p:cNvPr id="83" name=""/>
              <p:cNvSpPr/>
              <p:nvPr/>
            </p:nvSpPr>
            <p:spPr>
              <a:xfrm>
                <a:off x="4051440" y="2679480"/>
                <a:ext cx="869040" cy="2882880"/>
              </a:xfrm>
              <a:custGeom>
                <a:avLst/>
                <a:gdLst/>
                <a:ahLst/>
                <a:rect l="l" t="t" r="r" b="b"/>
                <a:pathLst>
                  <a:path w="548" h="1816">
                    <a:moveTo>
                      <a:pt x="0" y="1816"/>
                    </a:moveTo>
                    <a:cubicBezTo>
                      <a:pt x="18" y="1750"/>
                      <a:pt x="13" y="1722"/>
                      <a:pt x="64" y="1688"/>
                    </a:cubicBezTo>
                    <a:cubicBezTo>
                      <a:pt x="67" y="1683"/>
                      <a:pt x="103" y="1642"/>
                      <a:pt x="104" y="1640"/>
                    </a:cubicBezTo>
                    <a:cubicBezTo>
                      <a:pt x="109" y="1633"/>
                      <a:pt x="106" y="1622"/>
                      <a:pt x="112" y="1616"/>
                    </a:cubicBezTo>
                    <a:cubicBezTo>
                      <a:pt x="126" y="1600"/>
                      <a:pt x="145" y="1591"/>
                      <a:pt x="160" y="1576"/>
                    </a:cubicBezTo>
                    <a:cubicBezTo>
                      <a:pt x="179" y="1557"/>
                      <a:pt x="176" y="1542"/>
                      <a:pt x="192" y="1520"/>
                    </a:cubicBezTo>
                    <a:cubicBezTo>
                      <a:pt x="199" y="1511"/>
                      <a:pt x="209" y="1505"/>
                      <a:pt x="216" y="1496"/>
                    </a:cubicBezTo>
                    <a:cubicBezTo>
                      <a:pt x="223" y="1486"/>
                      <a:pt x="224" y="1472"/>
                      <a:pt x="232" y="1464"/>
                    </a:cubicBezTo>
                    <a:cubicBezTo>
                      <a:pt x="247" y="1449"/>
                      <a:pt x="270" y="1444"/>
                      <a:pt x="288" y="1432"/>
                    </a:cubicBezTo>
                    <a:cubicBezTo>
                      <a:pt x="291" y="1376"/>
                      <a:pt x="285" y="1319"/>
                      <a:pt x="296" y="1264"/>
                    </a:cubicBezTo>
                    <a:cubicBezTo>
                      <a:pt x="299" y="1247"/>
                      <a:pt x="319" y="1238"/>
                      <a:pt x="328" y="1224"/>
                    </a:cubicBezTo>
                    <a:cubicBezTo>
                      <a:pt x="355" y="1181"/>
                      <a:pt x="370" y="1142"/>
                      <a:pt x="408" y="1104"/>
                    </a:cubicBezTo>
                    <a:cubicBezTo>
                      <a:pt x="422" y="1063"/>
                      <a:pt x="445" y="1043"/>
                      <a:pt x="472" y="1008"/>
                    </a:cubicBezTo>
                    <a:cubicBezTo>
                      <a:pt x="491" y="984"/>
                      <a:pt x="499" y="955"/>
                      <a:pt x="512" y="928"/>
                    </a:cubicBezTo>
                    <a:cubicBezTo>
                      <a:pt x="534" y="817"/>
                      <a:pt x="528" y="859"/>
                      <a:pt x="528" y="648"/>
                    </a:cubicBezTo>
                    <a:cubicBezTo>
                      <a:pt x="528" y="517"/>
                      <a:pt x="548" y="132"/>
                      <a:pt x="416" y="0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38840" y="3644640"/>
                <a:ext cx="482400" cy="1067040"/>
              </a:xfrm>
              <a:custGeom>
                <a:avLst/>
                <a:gdLst/>
                <a:ahLst/>
                <a:rect l="l" t="t" r="r" b="b"/>
                <a:pathLst>
                  <a:path w="304" h="672">
                    <a:moveTo>
                      <a:pt x="304" y="672"/>
                    </a:moveTo>
                    <a:cubicBezTo>
                      <a:pt x="291" y="578"/>
                      <a:pt x="262" y="490"/>
                      <a:pt x="232" y="400"/>
                    </a:cubicBezTo>
                    <a:cubicBezTo>
                      <a:pt x="221" y="368"/>
                      <a:pt x="207" y="341"/>
                      <a:pt x="192" y="312"/>
                    </a:cubicBezTo>
                    <a:cubicBezTo>
                      <a:pt x="188" y="304"/>
                      <a:pt x="189" y="294"/>
                      <a:pt x="184" y="288"/>
                    </a:cubicBezTo>
                    <a:cubicBezTo>
                      <a:pt x="166" y="266"/>
                      <a:pt x="140" y="252"/>
                      <a:pt x="120" y="232"/>
                    </a:cubicBezTo>
                    <a:cubicBezTo>
                      <a:pt x="117" y="195"/>
                      <a:pt x="119" y="157"/>
                      <a:pt x="112" y="120"/>
                    </a:cubicBezTo>
                    <a:cubicBezTo>
                      <a:pt x="110" y="111"/>
                      <a:pt x="100" y="105"/>
                      <a:pt x="96" y="96"/>
                    </a:cubicBezTo>
                    <a:cubicBezTo>
                      <a:pt x="72" y="49"/>
                      <a:pt x="64" y="0"/>
                      <a:pt x="0" y="0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889160" y="3022560"/>
                <a:ext cx="697680" cy="927000"/>
              </a:xfrm>
              <a:custGeom>
                <a:avLst/>
                <a:gdLst/>
                <a:ahLst/>
                <a:rect l="l" t="t" r="r" b="b"/>
                <a:pathLst>
                  <a:path w="440" h="584">
                    <a:moveTo>
                      <a:pt x="0" y="584"/>
                    </a:moveTo>
                    <a:cubicBezTo>
                      <a:pt x="10" y="565"/>
                      <a:pt x="24" y="548"/>
                      <a:pt x="32" y="528"/>
                    </a:cubicBezTo>
                    <a:cubicBezTo>
                      <a:pt x="53" y="473"/>
                      <a:pt x="48" y="453"/>
                      <a:pt x="104" y="416"/>
                    </a:cubicBezTo>
                    <a:cubicBezTo>
                      <a:pt x="109" y="408"/>
                      <a:pt x="113" y="398"/>
                      <a:pt x="120" y="392"/>
                    </a:cubicBezTo>
                    <a:cubicBezTo>
                      <a:pt x="129" y="384"/>
                      <a:pt x="144" y="385"/>
                      <a:pt x="152" y="376"/>
                    </a:cubicBezTo>
                    <a:cubicBezTo>
                      <a:pt x="191" y="331"/>
                      <a:pt x="198" y="257"/>
                      <a:pt x="248" y="224"/>
                    </a:cubicBezTo>
                    <a:cubicBezTo>
                      <a:pt x="281" y="158"/>
                      <a:pt x="272" y="115"/>
                      <a:pt x="336" y="72"/>
                    </a:cubicBezTo>
                    <a:cubicBezTo>
                      <a:pt x="364" y="30"/>
                      <a:pt x="399" y="21"/>
                      <a:pt x="440" y="0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3587760" y="3886200"/>
            <a:ext cx="351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1840" y="2895480"/>
            <a:ext cx="3524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3120" y="4572000"/>
            <a:ext cx="351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1080" y="2895480"/>
            <a:ext cx="351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1920" y="3886200"/>
            <a:ext cx="351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03440" y="762120"/>
            <a:ext cx="7754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The fundamental challenges</a:t>
            </a:r>
            <a:br>
              <a:rPr sz="3600"/>
            </a:b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of managing land/water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4674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nderstanding the consequences of resource uses distributed across land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08080"/>
                </a:solidFill>
                <a:latin typeface="Arial"/>
              </a:rPr>
              <a:t>Understanding the consequences of resource uses distribu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1960" y="274320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960" y="563868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360" y="10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Spatial organisation of resource uses</a:t>
            </a:r>
            <a:endParaRPr b="1" lang="en-US" sz="3600" spc="-1" strike="noStrike">
              <a:solidFill>
                <a:srgbClr val="ea7934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98840" y="2647800"/>
            <a:ext cx="2320560" cy="2514600"/>
            <a:chOff x="3498840" y="2647800"/>
            <a:chExt cx="2320560" cy="2514600"/>
          </a:xfrm>
        </p:grpSpPr>
        <p:sp>
          <p:nvSpPr>
            <p:cNvPr id="97" name=""/>
            <p:cNvSpPr/>
            <p:nvPr/>
          </p:nvSpPr>
          <p:spPr>
            <a:xfrm>
              <a:off x="3498840" y="2647800"/>
              <a:ext cx="579960" cy="62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78800" y="3276360"/>
              <a:ext cx="579960" cy="62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9120" y="3904920"/>
              <a:ext cx="579960" cy="62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9120" y="2647800"/>
              <a:ext cx="579960" cy="628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9080" y="3276360"/>
              <a:ext cx="580320" cy="628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39080" y="4533840"/>
              <a:ext cx="580320" cy="628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98840" y="3904920"/>
              <a:ext cx="579960" cy="628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78800" y="4533840"/>
              <a:ext cx="579960" cy="628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78800" y="2647800"/>
              <a:ext cx="579960" cy="628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39080" y="2647800"/>
              <a:ext cx="580320" cy="628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8840" y="3276360"/>
              <a:ext cx="579960" cy="6285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9120" y="3276360"/>
              <a:ext cx="579960" cy="6285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8800" y="3904920"/>
              <a:ext cx="579960" cy="62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9080" y="3904920"/>
              <a:ext cx="580320" cy="628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8840" y="4533840"/>
              <a:ext cx="579960" cy="6285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9120" y="4533840"/>
              <a:ext cx="579960" cy="628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02360" y="2666880"/>
            <a:ext cx="2320560" cy="2514600"/>
            <a:chOff x="6102360" y="2666880"/>
            <a:chExt cx="2320560" cy="2514600"/>
          </a:xfrm>
        </p:grpSpPr>
        <p:sp>
          <p:nvSpPr>
            <p:cNvPr id="114" name=""/>
            <p:cNvSpPr/>
            <p:nvPr/>
          </p:nvSpPr>
          <p:spPr>
            <a:xfrm>
              <a:off x="6102360" y="2666880"/>
              <a:ext cx="580320" cy="6285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2680" y="3295440"/>
              <a:ext cx="579960" cy="6285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82680" y="2666880"/>
              <a:ext cx="579960" cy="6285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63000" y="2666880"/>
              <a:ext cx="579960" cy="6285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02360" y="3295440"/>
              <a:ext cx="580320" cy="6285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3000" y="4552560"/>
              <a:ext cx="579960" cy="628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2360" y="4552560"/>
              <a:ext cx="580320" cy="6289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82680" y="4552560"/>
              <a:ext cx="579960" cy="6289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2960" y="3295440"/>
              <a:ext cx="579960" cy="6285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42960" y="2666880"/>
              <a:ext cx="579960" cy="6285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2360" y="3924000"/>
              <a:ext cx="580320" cy="62856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3000" y="3924000"/>
              <a:ext cx="579960" cy="6285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2680" y="3924000"/>
              <a:ext cx="579960" cy="6285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42960" y="3924000"/>
              <a:ext cx="579960" cy="62856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3000" y="3295440"/>
              <a:ext cx="579960" cy="62856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42960" y="4552560"/>
              <a:ext cx="579960" cy="62892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26920" y="2647800"/>
            <a:ext cx="2390760" cy="2514600"/>
            <a:chOff x="826920" y="2647800"/>
            <a:chExt cx="2390760" cy="2514600"/>
          </a:xfrm>
        </p:grpSpPr>
        <p:sp>
          <p:nvSpPr>
            <p:cNvPr id="131" name=""/>
            <p:cNvSpPr/>
            <p:nvPr/>
          </p:nvSpPr>
          <p:spPr>
            <a:xfrm>
              <a:off x="826920" y="2647800"/>
              <a:ext cx="1195560" cy="2514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2480" y="2647800"/>
              <a:ext cx="1195200" cy="2514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03440" y="762120"/>
            <a:ext cx="7754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The fundamental challenges</a:t>
            </a:r>
            <a:br>
              <a:rPr sz="3600"/>
            </a:br>
            <a:r>
              <a:rPr b="1" lang="en-NZ" sz="3600" spc="-1" strike="noStrike">
                <a:solidFill>
                  <a:srgbClr val="ea7934"/>
                </a:solidFill>
                <a:latin typeface="Arial"/>
              </a:rPr>
              <a:t>of managing land/water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8195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08080"/>
                </a:solidFill>
                <a:latin typeface="Arial"/>
              </a:rPr>
              <a:t>Understanding the consequences of resource uses distributed across land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nderstanding the consequences of resource uses distribu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960" y="274320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1960" y="5638680"/>
            <a:ext cx="8020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46640" y="4156200"/>
            <a:ext cx="2813040" cy="1447560"/>
          </a:xfrm>
          <a:custGeom>
            <a:avLst/>
            <a:gdLst/>
            <a:ahLst/>
            <a:rect l="l" t="t" r="r" b="b"/>
            <a:pathLst>
              <a:path w="3120" h="984">
                <a:moveTo>
                  <a:pt x="0" y="944"/>
                </a:moveTo>
                <a:cubicBezTo>
                  <a:pt x="108" y="964"/>
                  <a:pt x="216" y="984"/>
                  <a:pt x="336" y="848"/>
                </a:cubicBezTo>
                <a:cubicBezTo>
                  <a:pt x="456" y="712"/>
                  <a:pt x="592" y="256"/>
                  <a:pt x="720" y="128"/>
                </a:cubicBezTo>
                <a:cubicBezTo>
                  <a:pt x="848" y="0"/>
                  <a:pt x="960" y="8"/>
                  <a:pt x="1104" y="80"/>
                </a:cubicBezTo>
                <a:cubicBezTo>
                  <a:pt x="1248" y="152"/>
                  <a:pt x="1416" y="440"/>
                  <a:pt x="1584" y="560"/>
                </a:cubicBezTo>
                <a:cubicBezTo>
                  <a:pt x="1752" y="680"/>
                  <a:pt x="1928" y="744"/>
                  <a:pt x="2112" y="800"/>
                </a:cubicBezTo>
                <a:cubicBezTo>
                  <a:pt x="2296" y="856"/>
                  <a:pt x="2520" y="872"/>
                  <a:pt x="2688" y="896"/>
                </a:cubicBezTo>
                <a:cubicBezTo>
                  <a:pt x="2856" y="920"/>
                  <a:pt x="2988" y="932"/>
                  <a:pt x="3120" y="94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6000" y="5576760"/>
            <a:ext cx="5419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16000" y="184284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6720" y="57452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18600">
            <a:off x="-243360" y="349128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Impact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762120"/>
            <a:ext cx="821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Temporal organisation of resource uses</a:t>
            </a:r>
            <a:br>
              <a:rPr sz="3200"/>
            </a:b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Singl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46640" y="4156200"/>
            <a:ext cx="2813040" cy="1447560"/>
          </a:xfrm>
          <a:custGeom>
            <a:avLst/>
            <a:gdLst/>
            <a:ahLst/>
            <a:rect l="l" t="t" r="r" b="b"/>
            <a:pathLst>
              <a:path w="3120" h="984">
                <a:moveTo>
                  <a:pt x="0" y="944"/>
                </a:moveTo>
                <a:cubicBezTo>
                  <a:pt x="108" y="964"/>
                  <a:pt x="216" y="984"/>
                  <a:pt x="336" y="848"/>
                </a:cubicBezTo>
                <a:cubicBezTo>
                  <a:pt x="456" y="712"/>
                  <a:pt x="592" y="256"/>
                  <a:pt x="720" y="128"/>
                </a:cubicBezTo>
                <a:cubicBezTo>
                  <a:pt x="848" y="0"/>
                  <a:pt x="960" y="8"/>
                  <a:pt x="1104" y="80"/>
                </a:cubicBezTo>
                <a:cubicBezTo>
                  <a:pt x="1248" y="152"/>
                  <a:pt x="1416" y="440"/>
                  <a:pt x="1584" y="560"/>
                </a:cubicBezTo>
                <a:cubicBezTo>
                  <a:pt x="1752" y="680"/>
                  <a:pt x="1928" y="744"/>
                  <a:pt x="2112" y="800"/>
                </a:cubicBezTo>
                <a:cubicBezTo>
                  <a:pt x="2296" y="856"/>
                  <a:pt x="2520" y="872"/>
                  <a:pt x="2688" y="896"/>
                </a:cubicBezTo>
                <a:cubicBezTo>
                  <a:pt x="2856" y="920"/>
                  <a:pt x="2988" y="932"/>
                  <a:pt x="3120" y="94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02080" y="4156200"/>
            <a:ext cx="2814480" cy="1447560"/>
          </a:xfrm>
          <a:custGeom>
            <a:avLst/>
            <a:gdLst/>
            <a:ahLst/>
            <a:rect l="l" t="t" r="r" b="b"/>
            <a:pathLst>
              <a:path w="3120" h="984">
                <a:moveTo>
                  <a:pt x="0" y="944"/>
                </a:moveTo>
                <a:cubicBezTo>
                  <a:pt x="108" y="964"/>
                  <a:pt x="216" y="984"/>
                  <a:pt x="336" y="848"/>
                </a:cubicBezTo>
                <a:cubicBezTo>
                  <a:pt x="456" y="712"/>
                  <a:pt x="592" y="256"/>
                  <a:pt x="720" y="128"/>
                </a:cubicBezTo>
                <a:cubicBezTo>
                  <a:pt x="848" y="0"/>
                  <a:pt x="960" y="8"/>
                  <a:pt x="1104" y="80"/>
                </a:cubicBezTo>
                <a:cubicBezTo>
                  <a:pt x="1248" y="152"/>
                  <a:pt x="1416" y="440"/>
                  <a:pt x="1584" y="560"/>
                </a:cubicBezTo>
                <a:cubicBezTo>
                  <a:pt x="1752" y="680"/>
                  <a:pt x="1928" y="744"/>
                  <a:pt x="2112" y="800"/>
                </a:cubicBezTo>
                <a:cubicBezTo>
                  <a:pt x="2296" y="856"/>
                  <a:pt x="2520" y="872"/>
                  <a:pt x="2688" y="896"/>
                </a:cubicBezTo>
                <a:cubicBezTo>
                  <a:pt x="2856" y="920"/>
                  <a:pt x="2988" y="932"/>
                  <a:pt x="3120" y="9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9560" y="4156200"/>
            <a:ext cx="2814480" cy="1447560"/>
          </a:xfrm>
          <a:custGeom>
            <a:avLst/>
            <a:gdLst/>
            <a:ahLst/>
            <a:rect l="l" t="t" r="r" b="b"/>
            <a:pathLst>
              <a:path w="3120" h="984">
                <a:moveTo>
                  <a:pt x="0" y="944"/>
                </a:moveTo>
                <a:cubicBezTo>
                  <a:pt x="108" y="964"/>
                  <a:pt x="216" y="984"/>
                  <a:pt x="336" y="848"/>
                </a:cubicBezTo>
                <a:cubicBezTo>
                  <a:pt x="456" y="712"/>
                  <a:pt x="592" y="256"/>
                  <a:pt x="720" y="128"/>
                </a:cubicBezTo>
                <a:cubicBezTo>
                  <a:pt x="848" y="0"/>
                  <a:pt x="960" y="8"/>
                  <a:pt x="1104" y="80"/>
                </a:cubicBezTo>
                <a:cubicBezTo>
                  <a:pt x="1248" y="152"/>
                  <a:pt x="1416" y="440"/>
                  <a:pt x="1584" y="560"/>
                </a:cubicBezTo>
                <a:cubicBezTo>
                  <a:pt x="1752" y="680"/>
                  <a:pt x="1928" y="744"/>
                  <a:pt x="2112" y="800"/>
                </a:cubicBezTo>
                <a:cubicBezTo>
                  <a:pt x="2296" y="856"/>
                  <a:pt x="2520" y="872"/>
                  <a:pt x="2688" y="896"/>
                </a:cubicBezTo>
                <a:cubicBezTo>
                  <a:pt x="2856" y="920"/>
                  <a:pt x="2988" y="932"/>
                  <a:pt x="3120" y="9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576760"/>
            <a:ext cx="5419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016000" y="184284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6720" y="57452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18600">
            <a:off x="-275040" y="349128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toneSans"/>
              </a:rPr>
              <a:t>Impact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2120" y="685800"/>
            <a:ext cx="829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Temporal organisation of resource uses</a:t>
            </a:r>
            <a:br>
              <a:rPr sz="3200"/>
            </a:br>
            <a:r>
              <a:rPr b="1" lang="en-NZ" sz="3200" spc="-1" strike="noStrike">
                <a:solidFill>
                  <a:srgbClr val="ea7934"/>
                </a:solidFill>
                <a:latin typeface="Arial"/>
              </a:rPr>
              <a:t>Cumulative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2040" y="2057400"/>
            <a:ext cx="4642200" cy="3505320"/>
          </a:xfrm>
          <a:custGeom>
            <a:avLst/>
            <a:gdLst/>
            <a:ahLst/>
            <a:rect l="l" t="t" r="r" b="b"/>
            <a:pathLst>
              <a:path w="3168" h="2376">
                <a:moveTo>
                  <a:pt x="0" y="2352"/>
                </a:moveTo>
                <a:cubicBezTo>
                  <a:pt x="68" y="2364"/>
                  <a:pt x="136" y="2376"/>
                  <a:pt x="192" y="2352"/>
                </a:cubicBezTo>
                <a:cubicBezTo>
                  <a:pt x="248" y="2328"/>
                  <a:pt x="296" y="2288"/>
                  <a:pt x="336" y="2208"/>
                </a:cubicBezTo>
                <a:cubicBezTo>
                  <a:pt x="376" y="2128"/>
                  <a:pt x="392" y="1984"/>
                  <a:pt x="432" y="1872"/>
                </a:cubicBezTo>
                <a:cubicBezTo>
                  <a:pt x="472" y="1760"/>
                  <a:pt x="536" y="1600"/>
                  <a:pt x="576" y="1536"/>
                </a:cubicBezTo>
                <a:cubicBezTo>
                  <a:pt x="616" y="1472"/>
                  <a:pt x="632" y="1504"/>
                  <a:pt x="672" y="1488"/>
                </a:cubicBezTo>
                <a:cubicBezTo>
                  <a:pt x="712" y="1472"/>
                  <a:pt x="768" y="1448"/>
                  <a:pt x="816" y="1440"/>
                </a:cubicBezTo>
                <a:cubicBezTo>
                  <a:pt x="864" y="1432"/>
                  <a:pt x="920" y="1456"/>
                  <a:pt x="960" y="1440"/>
                </a:cubicBezTo>
                <a:cubicBezTo>
                  <a:pt x="1000" y="1424"/>
                  <a:pt x="1024" y="1440"/>
                  <a:pt x="1056" y="1344"/>
                </a:cubicBezTo>
                <a:cubicBezTo>
                  <a:pt x="1088" y="1248"/>
                  <a:pt x="1128" y="960"/>
                  <a:pt x="1152" y="864"/>
                </a:cubicBezTo>
                <a:cubicBezTo>
                  <a:pt x="1176" y="768"/>
                  <a:pt x="1176" y="792"/>
                  <a:pt x="1200" y="768"/>
                </a:cubicBezTo>
                <a:cubicBezTo>
                  <a:pt x="1224" y="744"/>
                  <a:pt x="1256" y="728"/>
                  <a:pt x="1296" y="720"/>
                </a:cubicBezTo>
                <a:cubicBezTo>
                  <a:pt x="1336" y="712"/>
                  <a:pt x="1400" y="736"/>
                  <a:pt x="1440" y="720"/>
                </a:cubicBezTo>
                <a:cubicBezTo>
                  <a:pt x="1480" y="704"/>
                  <a:pt x="1496" y="728"/>
                  <a:pt x="1536" y="624"/>
                </a:cubicBezTo>
                <a:cubicBezTo>
                  <a:pt x="1576" y="520"/>
                  <a:pt x="1632" y="192"/>
                  <a:pt x="1680" y="96"/>
                </a:cubicBezTo>
                <a:cubicBezTo>
                  <a:pt x="1728" y="0"/>
                  <a:pt x="1784" y="16"/>
                  <a:pt x="1824" y="48"/>
                </a:cubicBezTo>
                <a:cubicBezTo>
                  <a:pt x="1864" y="80"/>
                  <a:pt x="1888" y="112"/>
                  <a:pt x="1920" y="288"/>
                </a:cubicBezTo>
                <a:cubicBezTo>
                  <a:pt x="1952" y="464"/>
                  <a:pt x="1968" y="840"/>
                  <a:pt x="2016" y="1104"/>
                </a:cubicBezTo>
                <a:cubicBezTo>
                  <a:pt x="2064" y="1368"/>
                  <a:pt x="2120" y="1688"/>
                  <a:pt x="2208" y="1872"/>
                </a:cubicBezTo>
                <a:cubicBezTo>
                  <a:pt x="2296" y="2056"/>
                  <a:pt x="2384" y="2128"/>
                  <a:pt x="2544" y="2208"/>
                </a:cubicBezTo>
                <a:cubicBezTo>
                  <a:pt x="2704" y="2288"/>
                  <a:pt x="2936" y="2320"/>
                  <a:pt x="3168" y="235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9760" y="3657600"/>
            <a:ext cx="527544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0920" y="3200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StoneSans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22:23:52Z</dcterms:created>
  <dc:creator>Breck Bowden</dc:creator>
  <dc:description/>
  <dc:language>en-US</dc:language>
  <cp:lastModifiedBy>Breck Bowden</cp:lastModifiedBy>
  <cp:lastPrinted>1999-07-15T01:30:06Z</cp:lastPrinted>
  <dcterms:modified xsi:type="dcterms:W3CDTF">2001-04-05T21:50:57Z</dcterms:modified>
  <cp:revision>96</cp:revision>
  <dc:subject/>
  <dc:title>The Biophysical Template</dc:title>
</cp:coreProperties>
</file>